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3.jpeg" ContentType="image/jpeg"/>
  <Override PartName="/ppt/media/image27.wmf" ContentType="image/x-wmf"/>
  <Override PartName="/ppt/media/image23.wmf" ContentType="image/x-wmf"/>
  <Override PartName="/ppt/media/image22.wmf" ContentType="image/x-wmf"/>
  <Override PartName="/ppt/media/image26.gif" ContentType="image/gi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png" ContentType="image/png"/>
  <Override PartName="/ppt/media/image2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4.wmf" ContentType="image/x-wmf"/>
  <Override PartName="/ppt/media/image17.wmf" ContentType="image/x-wmf"/>
  <Override PartName="/ppt/media/image40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42.png" ContentType="image/png"/>
  <Override PartName="/ppt/media/image38.jpeg" ContentType="image/jpeg"/>
  <Override PartName="/ppt/media/image31.wmf" ContentType="image/x-wmf"/>
  <Override PartName="/ppt/media/image43.wmf" ContentType="image/x-wmf"/>
  <Override PartName="/ppt/media/image33.png" ContentType="image/png"/>
  <Override PartName="/ppt/media/image30.gif" ContentType="image/gif"/>
  <Override PartName="/ppt/media/image8.png" ContentType="image/png"/>
  <Override PartName="/ppt/media/image44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35.wmf" ContentType="image/x-wmf"/>
  <Override PartName="/ppt/media/image47.wmf" ContentType="image/x-wmf"/>
  <Override PartName="/ppt/media/image12.wmf" ContentType="image/x-wmf"/>
  <Override PartName="/ppt/media/image34.png" ContentType="image/png"/>
  <Override PartName="/ppt/media/image4.png" ContentType="image/png"/>
  <Override PartName="/ppt/media/image10.jpeg" ContentType="image/jpeg"/>
  <Override PartName="/ppt/media/image13.wmf" ContentType="image/x-wmf"/>
  <Override PartName="/ppt/media/image5.png" ContentType="image/png"/>
  <Override PartName="/ppt/media/image37.png" ContentType="image/png"/>
  <Override PartName="/ppt/media/image7.png" ContentType="image/png"/>
  <Override PartName="/ppt/media/image15.wmf" ContentType="image/x-wmf"/>
  <Override PartName="/ppt/media/image36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32"/>
          </p:nvPr>
        </p:nvSpPr>
        <p:spPr>
          <a:xfrm>
            <a:off x="398124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lstStyle>
            <a:lvl1pPr marL="216000"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1226880" y="690480"/>
            <a:ext cx="460836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901440" y="4422600"/>
            <a:ext cx="5181480" cy="41450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33"/>
          </p:nvPr>
        </p:nvSpPr>
        <p:spPr>
          <a:xfrm>
            <a:off x="-36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lstStyle>
            <a:lvl1pPr marL="216000"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34"/>
          </p:nvPr>
        </p:nvSpPr>
        <p:spPr>
          <a:xfrm>
            <a:off x="398124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lstStyle>
            <a:lvl1pPr marL="216000"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  <a:def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B8B3FFCA-DC41-4BC7-8C45-4BF153964452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 txBox="1"/>
          <p:nvPr/>
        </p:nvSpPr>
        <p:spPr>
          <a:xfrm>
            <a:off x="398124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F3F08F86-2E07-4798-9F51-000A8405CA42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-36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-36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398124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 txBox="1"/>
          <p:nvPr/>
        </p:nvSpPr>
        <p:spPr>
          <a:xfrm>
            <a:off x="398124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F435A036-9258-4416-8ABF-F41A2227597E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-36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-36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 txBox="1"/>
          <p:nvPr/>
        </p:nvSpPr>
        <p:spPr>
          <a:xfrm>
            <a:off x="398124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 txBox="1"/>
          <p:nvPr/>
        </p:nvSpPr>
        <p:spPr>
          <a:xfrm>
            <a:off x="398124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fld id="{494F3B70-C525-46AA-962F-CA0423F18AFD}" type="slidenum"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-360" y="8775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-36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81240" y="-360"/>
            <a:ext cx="3003480" cy="4842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840" bIns="428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CE92-5B4F-44BD-A008-796E6DCA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DF54-6AAF-4C73-BBA0-27FB1D35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06CD968-9BDD-4545-ACCD-6FCBC8E1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81F0-E017-40B9-AF41-3692E6033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CE7B7A-6794-4292-8B2A-0500719B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8621FE-3DD0-49C2-8D71-5A36BA65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C6DF7B-180B-4C4C-BFDC-7919B257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097E3E-9E9F-4076-B1DE-D8F7BAF30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393C52-3ED2-4553-A99B-2127C4CF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7B7604-1BBB-44E4-8487-F1AC8615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25EF37-DB35-4BE4-8E92-75933E3C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4870234-2731-465B-866B-8AB51899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27F8AC-4158-4FE2-B24C-4670F388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05A8DEA-5814-4E70-9EC3-CD4B43590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9C87-6769-46E4-AD4D-AF053B1D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D5424D-D2EB-46A5-86C4-0D8679CF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B955-9B1B-4C00-BCAA-EE1A8F0AB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D6F41-76FC-477D-98CB-9D4101A5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7C18-B86B-4B44-8D63-EC9CB06C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38D7-AA94-4335-892F-21F4D59B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D759-94F1-462D-8BD2-BBCAA7DA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7B83-AB8C-47B7-A463-3259E2BF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4123-7791-4677-9E0E-D465AE6F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31EA-F164-4653-908F-4F95E76F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1902-87D2-4978-8015-A3AAABBD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EF19C-C44D-458C-91C2-0F73F6713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B8405-F74D-457F-A0F9-74E071E3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74C4-986A-40E3-AE3A-0443596C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1A27-FB2B-4EB7-B95B-662577F2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80AE3-E73C-4278-8DA3-B1818C1F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9ACA0-81FC-444A-8075-BB8FDEC9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346C1-FB39-4DEC-8FCF-D83941DA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B946D-27E5-42DB-8691-84824E56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9220A-CFE0-4659-B734-D2F9FFE92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B5DF-B4AD-497F-913A-8900E25F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AADDC-02F7-42D0-8686-5C6A03A5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0AB77-660F-4082-AEA5-F3000D30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F444-E6C4-40F3-B0E9-3044D5F6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47ED3-5A2C-458D-BC94-49F69CC1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A2685-37F0-456E-902D-D2C977A9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99651-E708-4386-9B6C-206ABB06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6985C-86B8-4CD3-8420-B4746FD4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50B9C-AA15-4378-9DB3-13E8720A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6FFD1-D6CC-42EA-958A-E7E4D874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ABEC3-4937-459C-B3F0-AB83A37C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E56-262F-4328-A7EF-0C891308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96B2B-9F82-4F11-9835-76A155B7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5A3BD-354F-4923-AD6B-CC1AAFD3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09D26-CC33-4C61-AEDD-0A8BBB86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83C84-963C-45CC-A7B6-240A8593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BEBEC-6C85-49B4-A674-40C7DF04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340BD-5CD6-4BFF-B81B-DE8022FC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FE301-29A0-4D70-B398-8D1DF926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88FA8-8690-4CCE-A27C-0E90E22C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8C7F6-C0BF-43D7-A617-B77FADFA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A70A2-7343-4EA6-903D-B54E2399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19C-BFC8-4161-A099-EE60EF44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BF91C-6715-464F-BEEB-C1194747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B3C5D-AB06-4B1E-B055-168A7B95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1F136-EF0D-4067-BF46-9E21675D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BC9D6B-8377-4DC7-8029-6EBDE29F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26939-C1EA-4861-8CB2-EDDF2446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1CB8D-D0C8-4733-B7E7-4360A495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AA969-E201-4389-9E3F-510DDA0D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8753B-08B2-4ECA-B371-74D5BAD3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FB98E-6BEF-4063-ABD9-426C81DB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71AAB-8376-462B-8191-2AEC379E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F6D9-8E5E-490D-9FB7-8F9A9E5A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CBD7B-4C42-4DC3-A7E9-BEFE75A7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143C9-957D-415E-BB92-9AB8C42A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AD527-9452-41A1-AA10-F674D2D7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7867A-8008-4EBA-AFE4-4638F22B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EFB78-3E2B-4C98-BEF2-2B1028FE1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8E3B3-C02F-475B-9C28-FBFC0302E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69D6D-4692-4571-8129-846FFD97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6C519-8400-4532-BBFF-07938A33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A1D90-646C-45F6-8798-2AD87B47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BCF87-2FB6-485A-8A28-B39ABD83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39B-917D-4489-AF60-C9803ADB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9E7B8-FB12-4007-9114-25C996B4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7A2A2-F786-4301-BB74-AEB15A0BF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8A425-1412-430D-8432-367BA7C9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1813E-76CE-43B5-B2CC-B62A7668B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9A812-8A41-46A0-9375-1305439D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B2EAB-9E88-41E2-8627-847F1288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76F51-4D9A-4533-A249-E573A88E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BBF40-D724-4AA7-BC8D-F3BFCB01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3DC02-2B81-4BDD-BBEE-4C20BFEA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9FFB8B-1C9B-46DA-94FC-A8DBC434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3CB3-A737-4A61-88F3-C5AA6AEE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CE1A0-B6A3-48CC-B5D8-1F35E863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31CC0-7217-472E-BE8D-C9E82CEC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565CD-902B-4713-A9E5-9AA84048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A2E04-3FFE-4AB3-B2B7-E3992816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9B623-DF0E-4481-9233-8553B1E21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9C30E-C066-43E1-BB9E-33A785F93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F7B10-1B7D-4B3A-B4EC-A9A7E321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8A50E-CF43-441B-9DEF-B16E7F84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97382-CB21-4BBC-86F2-09560100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0A5CF1-A3C4-4AFD-A89E-98208823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B3C0-F425-4E58-956B-D38C4F47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56C3C-33D8-4B86-8326-77A62118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8C874-7B1D-4E12-9F8A-68C2E206B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384FC-78AE-4830-86CD-526E5892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F5BE9-CADA-4589-9CA2-961CBFEF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22E71-6D32-4335-BD94-1AB76775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207FC-A66D-4F6F-9037-EFE7F5DF9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862B5-2971-42C8-A599-225E76C4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-360" y="6369120"/>
            <a:ext cx="522360" cy="3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9C683-8754-42DA-9FF0-8BDBC4585F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9"/>
          </p:nvPr>
        </p:nvSpPr>
        <p:spPr>
          <a:xfrm>
            <a:off x="687852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AA6FF-1D3F-45FA-A9FF-5E91D088456E}" type="slidenum">
              <a:rPr b="0" lang="en-US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30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ahoma"/>
              </a:rPr>
              <a:t>@ Eric Yu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AF1F-5866-4C28-980B-46EAC19A3E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0467-DB6C-4574-B104-2F2ED73C7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E732-8686-4A13-9AEC-3B153C0100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A35C-D4AF-4E16-979B-C8DC24D83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4c6d4e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7FA6-5B32-4B7B-8A27-C065FF3FF102}" type="slidenum">
              <a:rPr b="0" lang="en-US" sz="1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F14E-FA74-43B5-B530-C3A146EAD0F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106668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4c6d4e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2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ftr" idx="2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sldNum" idx="24"/>
          </p:nvPr>
        </p:nvSpPr>
        <p:spPr>
          <a:xfrm>
            <a:off x="6878520" y="6278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B97A-006C-4AD4-B2D5-A80C58F52A3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5"/>
          </p:nvPr>
        </p:nvSpPr>
        <p:spPr>
          <a:xfrm>
            <a:off x="6857640" y="563868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33ccff"/>
              </a:buClr>
              <a:buSzPct val="60000"/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23.wmf"/><Relationship Id="rId21" Type="http://schemas.openxmlformats.org/officeDocument/2006/relationships/slideLayout" Target="../slideLayouts/slideLayout8.xml"/><Relationship Id="rId2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7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gif"/><Relationship Id="rId7" Type="http://schemas.openxmlformats.org/officeDocument/2006/relationships/image" Target="../media/image31.wmf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wmf"/><Relationship Id="rId12" Type="http://schemas.openxmlformats.org/officeDocument/2006/relationships/slideLayout" Target="../slideLayouts/slideLayout7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8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8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8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slideLayout" Target="../slideLayouts/slideLayout8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1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1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1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istar.rwth-aachen.de/" TargetMode="External"/><Relationship Id="rId2" Type="http://schemas.openxmlformats.org/officeDocument/2006/relationships/slideLayout" Target="../slideLayouts/slideLayout50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istar.rwth-aachen.de/" TargetMode="External"/><Relationship Id="rId2" Type="http://schemas.openxmlformats.org/officeDocument/2006/relationships/hyperlink" Target="http://www.ischool.utoronto.ca/~yu" TargetMode="External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14520" y="1095480"/>
            <a:ext cx="777240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ahoma"/>
              </a:rPr>
              <a:t>Strategic Business Modeling with </a:t>
            </a:r>
            <a:r>
              <a:rPr b="1" i="1" lang="en-CA" sz="4800" spc="-1" strike="noStrike">
                <a:solidFill>
                  <a:srgbClr val="000000"/>
                </a:solidFill>
                <a:latin typeface="Script MT Bold"/>
              </a:rPr>
              <a:t>i*</a:t>
            </a:r>
            <a:r>
              <a:rPr b="1" lang="en-CA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419120" y="3476520"/>
            <a:ext cx="6400800" cy="27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Eric Y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University of Toro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Presented at CASCON Workshop o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Tahoma"/>
              </a:rPr>
              <a:t>Requirements-Driven Business Process Modelling and Performance Management</a:t>
            </a:r>
            <a:r>
              <a:rPr b="1" lang="en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Markham, Ontario, Canad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October 29, 2008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0" y="6168960"/>
            <a:ext cx="9144000" cy="69840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6477120" y="6195960"/>
            <a:ext cx="266688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cc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1FCC-A7BF-4D08-8561-B87677DBA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rcRect l="2145" t="12541" r="3373" b="5853"/>
          <a:stretch/>
        </p:blipFill>
        <p:spPr>
          <a:xfrm>
            <a:off x="533520" y="228600"/>
            <a:ext cx="80010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cc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4F3D-DAD6-49CC-86F1-2FB81794B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rcRect l="2607" t="13078" r="3737" b="7605"/>
          <a:stretch/>
        </p:blipFill>
        <p:spPr>
          <a:xfrm>
            <a:off x="228600" y="304920"/>
            <a:ext cx="868680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0000"/>
                </a:solidFill>
                <a:latin typeface="Tahoma"/>
              </a:rPr>
              <a:t>Strategic Rationales</a:t>
            </a:r>
            <a:r>
              <a:rPr b="0" lang="en-CA" sz="2800" spc="-1" strike="noStrike">
                <a:solidFill>
                  <a:srgbClr val="333399"/>
                </a:solidFill>
                <a:latin typeface="Tahoma"/>
              </a:rPr>
              <a:t> about alternative configurations of relationships with other actors – </a:t>
            </a:r>
            <a:r>
              <a:rPr b="0" i="1" lang="en-CA" sz="2800" spc="-1" strike="noStrike">
                <a:solidFill>
                  <a:srgbClr val="000000"/>
                </a:solidFill>
                <a:latin typeface="Tahoma"/>
              </a:rPr>
              <a:t>Why? How? How else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771480" y="1652760"/>
            <a:ext cx="8372520" cy="520524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7510680" y="6272280"/>
            <a:ext cx="126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00" spc="-1" strike="noStrike">
                <a:solidFill>
                  <a:srgbClr val="000000"/>
                </a:solidFill>
                <a:latin typeface="Tahoma"/>
              </a:rPr>
              <a:t>[Yu AOSE01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709-FE67-4586-82B2-01F7825F8B2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685800"/>
            <a:ext cx="8686800" cy="543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585-20A1-4EA7-9033-5D74199671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An Exampl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r>
              <a:rPr b="1" i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Meeting Scheduler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SimSu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218960" y="5037120"/>
            <a:ext cx="70102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From: E. Yu. Towards Modelling and Reasoning Support for Early-Phase Requirements Engineering   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3rd IEEE Int. Symp. on Requirements Engineering (RE'97) Jan. 6-8, 1997, Washington D.C., USA. pp. 226-235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2537-4BDC-4F9C-90F7-5FD03CE39424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746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00"/>
                </a:solidFill>
                <a:latin typeface="Tahoma"/>
                <a:ea typeface="SimSun"/>
              </a:rPr>
              <a:t>Strategic Dependency (SD) mod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4876920" y="594360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SimSun"/>
              </a:rPr>
              <a:t>Meeting Scheduling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519960" y="762120"/>
            <a:ext cx="11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Tahoma"/>
                <a:ea typeface="SimSun"/>
              </a:rPr>
              <a:t>[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  <a:ea typeface="SimSun"/>
              </a:rPr>
              <a:t>Yu RE9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1217160" y="1066680"/>
            <a:ext cx="4279320" cy="360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40" y="15"/>
                </a:moveTo>
                <a:arcTo wR="10800" hR="10800" stAng="-5578389" swAng="4630708"/>
                <a:lnTo>
                  <a:pt x="10800" y="10800"/>
                </a:lnTo>
                <a:close/>
              </a:path>
              <a:path fill="none" w="21600" h="21600">
                <a:moveTo>
                  <a:pt x="10240" y="15"/>
                </a:moveTo>
                <a:arcTo wR="10800" hR="10800" stAng="-5578389" swAng="4630708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22680" y="1068480"/>
            <a:ext cx="6383880" cy="243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0585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05854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162920" y="167652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114800" y="2438280"/>
            <a:ext cx="108576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eferred Dates (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48120" y="3352680"/>
            <a:ext cx="93348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oposed Dat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2285280" y="1143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5637960" y="1143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523200">
            <a:off x="2438280" y="34286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106400">
            <a:off x="2894400" y="47239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343400" y="480060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 (ip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-1776240" y="-340920"/>
            <a:ext cx="9801000" cy="403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631" y="156"/>
                </a:moveTo>
                <a:arcTo wR="10800" hR="10800" stAng="-4814260" swAng="3047218"/>
                <a:lnTo>
                  <a:pt x="10800" y="10800"/>
                </a:lnTo>
                <a:close/>
              </a:path>
              <a:path fill="none" w="21600" h="21600">
                <a:moveTo>
                  <a:pt x="12631" y="156"/>
                </a:moveTo>
                <a:arcTo wR="10800" hR="10800" stAng="-4814260" swAng="3047218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 flipV="1">
            <a:off x="1292040" y="1446840"/>
            <a:ext cx="549288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603" y="67"/>
                </a:moveTo>
                <a:arcTo wR="10800" hR="10800" stAng="-5781843" swAng="5745969"/>
                <a:lnTo>
                  <a:pt x="10800" y="10800"/>
                </a:lnTo>
                <a:close/>
              </a:path>
              <a:path fill="none" w="21600" h="21600">
                <a:moveTo>
                  <a:pt x="9603" y="67"/>
                </a:moveTo>
                <a:arcTo wR="10800" hR="10800" stAng="-5781843" swAng="5745969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5866560" y="25146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2513880" y="25146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437560" y="17524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5637960" y="16765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 rot="1384200">
            <a:off x="2437200" y="39621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20437200">
            <a:off x="5714640" y="32032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343400" y="3962520"/>
            <a:ext cx="108576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ment (m,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 flipV="1">
            <a:off x="1135440" y="1231200"/>
            <a:ext cx="8213400" cy="3991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992" y="225"/>
                </a:moveTo>
                <a:arcTo wR="10800" hR="10800" stAng="-4697323" swAng="5061222"/>
                <a:lnTo>
                  <a:pt x="10800" y="10800"/>
                </a:lnTo>
                <a:close/>
              </a:path>
              <a:path fill="none" w="21600" h="21600">
                <a:moveTo>
                  <a:pt x="12992" y="225"/>
                </a:moveTo>
                <a:arcTo wR="10800" hR="10800" stAng="-4697323" swAng="5061222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1522080" y="-1396800"/>
            <a:ext cx="6252120" cy="583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589" y="366"/>
                </a:moveTo>
                <a:arcTo wR="10800" hR="10800" stAng="-4502111" swAng="3070551"/>
                <a:lnTo>
                  <a:pt x="10800" y="10800"/>
                </a:lnTo>
                <a:close/>
              </a:path>
              <a:path fill="none" w="21600" h="21600">
                <a:moveTo>
                  <a:pt x="13589" y="366"/>
                </a:moveTo>
                <a:arcTo wR="10800" hR="10800" stAng="-4502111" swAng="3070551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 rot="20440200">
            <a:off x="5943240" y="39625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 flipV="1">
            <a:off x="989640" y="1184400"/>
            <a:ext cx="4012920" cy="4713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025" y="493"/>
                </a:moveTo>
                <a:arcTo wR="10800" hR="10800" stAng="-4357489" swAng="5199007"/>
                <a:lnTo>
                  <a:pt x="10800" y="10800"/>
                </a:lnTo>
                <a:close/>
              </a:path>
              <a:path fill="none" w="21600" h="21600">
                <a:moveTo>
                  <a:pt x="14025" y="493"/>
                </a:moveTo>
                <a:arcTo wR="10800" hR="10800" stAng="-4357489" swAng="5199007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6019200" y="49528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214720" y="5087880"/>
            <a:ext cx="1749240" cy="110664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362320" y="5257800"/>
            <a:ext cx="1504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ssu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Attend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ip,m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086600" y="457200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67520" y="487692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mpor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" y="1981080"/>
            <a:ext cx="114300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807320" y="320040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  <a:ea typeface="SimSun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219800" y="198108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7040" y="2209680"/>
            <a:ext cx="79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429000" y="83808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 (p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523880" y="1828800"/>
            <a:ext cx="1600200" cy="533520"/>
          </a:xfrm>
          <a:custGeom>
            <a:avLst/>
            <a:gdLst/>
            <a:ahLst/>
            <a:rect l="l" t="t" r="r" b="b"/>
            <a:pathLst>
              <a:path w="1104" h="384">
                <a:moveTo>
                  <a:pt x="0" y="384"/>
                </a:moveTo>
                <a:cubicBezTo>
                  <a:pt x="172" y="272"/>
                  <a:pt x="344" y="160"/>
                  <a:pt x="528" y="96"/>
                </a:cubicBezTo>
                <a:cubicBezTo>
                  <a:pt x="712" y="32"/>
                  <a:pt x="1008" y="16"/>
                  <a:pt x="1104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962520" y="1763640"/>
            <a:ext cx="3200400" cy="446040"/>
          </a:xfrm>
          <a:custGeom>
            <a:avLst/>
            <a:gdLst/>
            <a:ahLst/>
            <a:rect l="l" t="t" r="r" b="b"/>
            <a:pathLst>
              <a:path w="2016" h="280">
                <a:moveTo>
                  <a:pt x="0" y="40"/>
                </a:moveTo>
                <a:cubicBezTo>
                  <a:pt x="384" y="20"/>
                  <a:pt x="768" y="0"/>
                  <a:pt x="1104" y="40"/>
                </a:cubicBezTo>
                <a:cubicBezTo>
                  <a:pt x="1440" y="80"/>
                  <a:pt x="1864" y="240"/>
                  <a:pt x="2016" y="28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124080" y="1600200"/>
            <a:ext cx="8953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Exclusion Dates (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7696080" y="2743200"/>
            <a:ext cx="0" cy="18288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00200" y="2438280"/>
            <a:ext cx="2514600" cy="266760"/>
          </a:xfrm>
          <a:custGeom>
            <a:avLst/>
            <a:gdLst/>
            <a:ahLst/>
            <a:rect l="l" t="t" r="r" b="b"/>
            <a:pathLst>
              <a:path w="1584" h="168">
                <a:moveTo>
                  <a:pt x="0" y="0"/>
                </a:moveTo>
                <a:cubicBezTo>
                  <a:pt x="252" y="60"/>
                  <a:pt x="504" y="120"/>
                  <a:pt x="768" y="144"/>
                </a:cubicBezTo>
                <a:cubicBezTo>
                  <a:pt x="1032" y="168"/>
                  <a:pt x="1448" y="144"/>
                  <a:pt x="1584" y="144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181480" y="2514600"/>
            <a:ext cx="2057400" cy="177840"/>
          </a:xfrm>
          <a:custGeom>
            <a:avLst/>
            <a:gdLst/>
            <a:ahLst/>
            <a:rect l="l" t="t" r="r" b="b"/>
            <a:pathLst>
              <a:path w="1296" h="112">
                <a:moveTo>
                  <a:pt x="0" y="96"/>
                </a:moveTo>
                <a:cubicBezTo>
                  <a:pt x="276" y="104"/>
                  <a:pt x="552" y="112"/>
                  <a:pt x="768" y="96"/>
                </a:cubicBezTo>
                <a:cubicBezTo>
                  <a:pt x="984" y="80"/>
                  <a:pt x="1208" y="16"/>
                  <a:pt x="129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523880" y="2743200"/>
            <a:ext cx="1524240" cy="914400"/>
          </a:xfrm>
          <a:custGeom>
            <a:avLst/>
            <a:gdLst/>
            <a:ahLst/>
            <a:rect l="l" t="t" r="r" b="b"/>
            <a:pathLst>
              <a:path w="960" h="576">
                <a:moveTo>
                  <a:pt x="0" y="0"/>
                </a:moveTo>
                <a:cubicBezTo>
                  <a:pt x="136" y="168"/>
                  <a:pt x="272" y="336"/>
                  <a:pt x="432" y="432"/>
                </a:cubicBezTo>
                <a:cubicBezTo>
                  <a:pt x="592" y="528"/>
                  <a:pt x="872" y="552"/>
                  <a:pt x="960" y="57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-454680" y="-968760"/>
            <a:ext cx="10231920" cy="6155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389" y="118"/>
                </a:moveTo>
                <a:arcTo wR="10800" hR="10800" stAng="-4892305" swAng="1317808"/>
                <a:lnTo>
                  <a:pt x="10800" y="10800"/>
                </a:lnTo>
                <a:close/>
              </a:path>
              <a:path fill="none" w="21600" h="21600">
                <a:moveTo>
                  <a:pt x="12389" y="118"/>
                </a:moveTo>
                <a:arcTo wR="10800" hR="10800" stAng="-4892305" swAng="1317808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-6332400" y="-25200"/>
            <a:ext cx="17998200" cy="583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78" y="102"/>
                </a:moveTo>
                <a:arcTo wR="10800" hR="10800" stAng="-4928009" swAng="1359979"/>
                <a:lnTo>
                  <a:pt x="10800" y="10800"/>
                </a:lnTo>
                <a:close/>
              </a:path>
              <a:path fill="none" w="21600" h="21600">
                <a:moveTo>
                  <a:pt x="12278" y="102"/>
                </a:moveTo>
                <a:arcTo wR="10800" hR="10800" stAng="-4928009" swAng="1359979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 rot="20437800">
            <a:off x="6018840" y="54212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 rot="2424000">
            <a:off x="1676520" y="5257440"/>
            <a:ext cx="22896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456560" y="4103640"/>
            <a:ext cx="1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  <a:ea typeface="SimSu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3FA4-8174-4453-97B8-0C4063F13B7E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00"/>
                </a:solidFill>
                <a:latin typeface="Tahoma"/>
                <a:ea typeface="SimSun"/>
              </a:rPr>
              <a:t>Strategic Rationale (SR) mod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0948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SimSun"/>
              </a:rPr>
              <a:t>Ask “Why”, “How”, “How els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114800" y="4495680"/>
            <a:ext cx="9907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eferred 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114800" y="3809880"/>
            <a:ext cx="8953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Exclusions 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rot="21033600">
            <a:off x="2403360" y="36190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2936160" y="49528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1503000" y="2522160"/>
            <a:ext cx="4282200" cy="246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07" y="519"/>
                </a:moveTo>
                <a:arcTo wR="10800" hR="10800" stAng="-4330129" swAng="2066931"/>
                <a:lnTo>
                  <a:pt x="10800" y="10800"/>
                </a:lnTo>
                <a:close/>
              </a:path>
              <a:path fill="none" w="21600" h="21600">
                <a:moveTo>
                  <a:pt x="14107" y="519"/>
                </a:moveTo>
                <a:arcTo wR="10800" hR="10800" stAng="-4330129" swAng="2066931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1677240" y="1948680"/>
            <a:ext cx="2007720" cy="180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612" y="481"/>
                </a:moveTo>
                <a:arcTo wR="10800" hR="10800" stAng="-6430228" swAng="5151150"/>
                <a:lnTo>
                  <a:pt x="10800" y="10800"/>
                </a:lnTo>
                <a:close/>
              </a:path>
              <a:path fill="none" w="21600" h="21600">
                <a:moveTo>
                  <a:pt x="7612" y="481"/>
                </a:moveTo>
                <a:arcTo wR="10800" hR="10800" stAng="-6430228" swAng="5151150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593080" y="29210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2593080" y="2502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821680" y="421020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 rot="1419600">
            <a:off x="5104440" y="20570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191120" y="5943600"/>
            <a:ext cx="108576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rot="21025800">
            <a:off x="3200040" y="198072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 rot="423600">
            <a:off x="5217480" y="457056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98360" y="1901880"/>
            <a:ext cx="3521160" cy="5105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371600" y="220968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rganiz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28840" y="309888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 Be Schedu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447920" y="411480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4920" y="4876920"/>
            <a:ext cx="1092240" cy="58392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Find  Suitable Sl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666880" y="4800600"/>
            <a:ext cx="914400" cy="533520"/>
          </a:xfrm>
          <a:prstGeom prst="hexagon">
            <a:avLst>
              <a:gd name="adj" fmla="val 22574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btain Av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990720" y="609588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rge Avail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90800" y="3605040"/>
            <a:ext cx="3240" cy="4971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52560" y="5460840"/>
            <a:ext cx="342720" cy="63504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1988640" y="2728440"/>
            <a:ext cx="3240" cy="382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764640" y="2590920"/>
            <a:ext cx="682920" cy="674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438280" y="2590920"/>
            <a:ext cx="646200" cy="5349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>
            <a:off x="1168560" y="4611600"/>
            <a:ext cx="480960" cy="279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67040" y="4622760"/>
            <a:ext cx="0" cy="711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486080" y="4599000"/>
            <a:ext cx="75960" cy="152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451240" y="4621320"/>
            <a:ext cx="252360" cy="371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8120" y="3886200"/>
            <a:ext cx="1522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9480" y="3886200"/>
            <a:ext cx="152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733920" y="19051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392800" y="1257480"/>
            <a:ext cx="3840120" cy="52578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562720" y="266688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ttend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1680" y="2057400"/>
            <a:ext cx="1295640" cy="507960"/>
          </a:xfrm>
          <a:prstGeom prst="hexagon">
            <a:avLst>
              <a:gd name="adj" fmla="val 33595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teIn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848720" y="281952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rrang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256080" y="3733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705720" y="380988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able (Meeting, D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943600" y="4648320"/>
            <a:ext cx="1219320" cy="507960"/>
          </a:xfrm>
          <a:prstGeom prst="hexagon">
            <a:avLst>
              <a:gd name="adj" fmla="val 31617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Find Agreeable 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248520" y="548640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greeTo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6095880" y="2437920"/>
            <a:ext cx="76212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7391520" y="2554200"/>
            <a:ext cx="0" cy="493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 flipV="1">
            <a:off x="7975440" y="2514600"/>
            <a:ext cx="270000" cy="287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315200" y="266688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7620120" y="3315960"/>
            <a:ext cx="671400" cy="4935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8632800" y="3319560"/>
            <a:ext cx="176400" cy="4284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8610480" y="3962520"/>
            <a:ext cx="22860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934320" y="4290840"/>
            <a:ext cx="317520" cy="35748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4267080"/>
            <a:ext cx="152280" cy="38124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467480" y="5365800"/>
            <a:ext cx="15264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226280" y="4657680"/>
            <a:ext cx="15228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084880" y="44197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84480" y="4241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8618040" y="4952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038480" y="5257800"/>
            <a:ext cx="9907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oposed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1414080" y="3570840"/>
            <a:ext cx="5227200" cy="261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40" y="20"/>
                </a:moveTo>
                <a:arcTo wR="10800" hR="10800" stAng="-5610334" swAng="3272976"/>
                <a:lnTo>
                  <a:pt x="10800" y="10800"/>
                </a:lnTo>
                <a:close/>
              </a:path>
              <a:path fill="none" w="21600" h="21600">
                <a:moveTo>
                  <a:pt x="10140" y="20"/>
                </a:moveTo>
                <a:arcTo wR="10800" hR="10800" stAng="-5610334" swAng="3272976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2227320" y="3741480"/>
            <a:ext cx="3417840" cy="181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156" y="19"/>
                </a:moveTo>
                <a:arcTo wR="10800" hR="10800" stAng="-5605180" swAng="5659558"/>
                <a:lnTo>
                  <a:pt x="10800" y="10800"/>
                </a:lnTo>
                <a:close/>
              </a:path>
              <a:path fill="none" w="21600" h="21600">
                <a:moveTo>
                  <a:pt x="10156" y="19"/>
                </a:moveTo>
                <a:arcTo wR="10800" hR="10800" stAng="-5605180" swAng="5659558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295280" y="5181480"/>
            <a:ext cx="1295640" cy="507960"/>
          </a:xfrm>
          <a:prstGeom prst="hexagon">
            <a:avLst>
              <a:gd name="adj" fmla="val 33595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btain Agre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 rot="20589600">
            <a:off x="3744360" y="40021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rot="1458000">
            <a:off x="5157720" y="41288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H="1" rot="20854800">
            <a:off x="3809520" y="457164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H="1">
            <a:off x="3656880" y="60199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5509440" y="59990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rot="21033600">
            <a:off x="5396040" y="54208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 rot="21413400">
            <a:off x="3704760" y="54100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0880" y="137160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0720" y="1600200"/>
            <a:ext cx="79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715000" y="114300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772240" y="144792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295280" y="2629080"/>
            <a:ext cx="76320" cy="1411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1916280" y="2831760"/>
            <a:ext cx="153720" cy="12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2489040" y="2593800"/>
            <a:ext cx="101880" cy="1620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2120" y="3505320"/>
            <a:ext cx="763560" cy="742680"/>
          </a:xfrm>
          <a:custGeom>
            <a:avLst/>
            <a:gdLst/>
            <a:ahLst/>
            <a:rect l="l" t="t" r="r" b="b"/>
            <a:pathLst>
              <a:path w="336" h="576">
                <a:moveTo>
                  <a:pt x="0" y="0"/>
                </a:moveTo>
                <a:cubicBezTo>
                  <a:pt x="20" y="120"/>
                  <a:pt x="40" y="240"/>
                  <a:pt x="96" y="336"/>
                </a:cubicBezTo>
                <a:cubicBezTo>
                  <a:pt x="152" y="432"/>
                  <a:pt x="296" y="536"/>
                  <a:pt x="336" y="57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503440" y="3505320"/>
            <a:ext cx="544680" cy="731880"/>
          </a:xfrm>
          <a:custGeom>
            <a:avLst/>
            <a:gdLst/>
            <a:ahLst/>
            <a:rect l="l" t="t" r="r" b="b"/>
            <a:pathLst>
              <a:path w="528" h="528">
                <a:moveTo>
                  <a:pt x="0" y="528"/>
                </a:moveTo>
                <a:cubicBezTo>
                  <a:pt x="100" y="524"/>
                  <a:pt x="200" y="520"/>
                  <a:pt x="288" y="432"/>
                </a:cubicBezTo>
                <a:cubicBezTo>
                  <a:pt x="376" y="344"/>
                  <a:pt x="488" y="72"/>
                  <a:pt x="52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890720" y="473724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2438280" y="4611240"/>
            <a:ext cx="114480" cy="112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29480" y="2386080"/>
            <a:ext cx="52200" cy="142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8001000" y="2514240"/>
            <a:ext cx="76320" cy="152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979960" y="3298680"/>
            <a:ext cx="663840" cy="63504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384"/>
                </a:moveTo>
                <a:cubicBezTo>
                  <a:pt x="52" y="296"/>
                  <a:pt x="104" y="208"/>
                  <a:pt x="192" y="144"/>
                </a:cubicBezTo>
                <a:cubicBezTo>
                  <a:pt x="280" y="80"/>
                  <a:pt x="472" y="24"/>
                  <a:pt x="52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8077320" y="3365640"/>
            <a:ext cx="128520" cy="126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8620200" y="3387600"/>
            <a:ext cx="152280" cy="763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929720" y="3838680"/>
            <a:ext cx="525240" cy="457200"/>
          </a:xfrm>
          <a:custGeom>
            <a:avLst/>
            <a:gdLst/>
            <a:ahLst/>
            <a:rect l="l" t="t" r="r" b="b"/>
            <a:pathLst>
              <a:path w="240" h="288">
                <a:moveTo>
                  <a:pt x="0" y="288"/>
                </a:moveTo>
                <a:cubicBezTo>
                  <a:pt x="28" y="240"/>
                  <a:pt x="56" y="192"/>
                  <a:pt x="96" y="144"/>
                </a:cubicBezTo>
                <a:cubicBezTo>
                  <a:pt x="136" y="96"/>
                  <a:pt x="216" y="24"/>
                  <a:pt x="24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686800" y="4089240"/>
            <a:ext cx="193680" cy="863640"/>
          </a:xfrm>
          <a:custGeom>
            <a:avLst/>
            <a:gdLst/>
            <a:ahLst/>
            <a:rect l="l" t="t" r="r" b="b"/>
            <a:pathLst>
              <a:path w="160" h="528">
                <a:moveTo>
                  <a:pt x="0" y="528"/>
                </a:moveTo>
                <a:cubicBezTo>
                  <a:pt x="64" y="404"/>
                  <a:pt x="128" y="280"/>
                  <a:pt x="144" y="192"/>
                </a:cubicBezTo>
                <a:cubicBezTo>
                  <a:pt x="160" y="104"/>
                  <a:pt x="128" y="52"/>
                  <a:pt x="9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6629400" y="5157360"/>
            <a:ext cx="0" cy="328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6553080" y="5257800"/>
            <a:ext cx="15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086600" y="4581360"/>
            <a:ext cx="569880" cy="19368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0" y="192"/>
                </a:moveTo>
                <a:cubicBezTo>
                  <a:pt x="72" y="184"/>
                  <a:pt x="144" y="176"/>
                  <a:pt x="192" y="144"/>
                </a:cubicBezTo>
                <a:cubicBezTo>
                  <a:pt x="240" y="112"/>
                  <a:pt x="272" y="24"/>
                  <a:pt x="28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033600" y="3201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907040" y="3787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813520" y="4227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438280" y="2057400"/>
            <a:ext cx="1344600" cy="304920"/>
          </a:xfrm>
          <a:custGeom>
            <a:avLst/>
            <a:gdLst/>
            <a:ahLst/>
            <a:rect l="l" t="t" r="r" b="b"/>
            <a:pathLst>
              <a:path w="816" h="192">
                <a:moveTo>
                  <a:pt x="0" y="192"/>
                </a:moveTo>
                <a:cubicBezTo>
                  <a:pt x="148" y="136"/>
                  <a:pt x="296" y="80"/>
                  <a:pt x="432" y="48"/>
                </a:cubicBezTo>
                <a:cubicBezTo>
                  <a:pt x="568" y="16"/>
                  <a:pt x="752" y="8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2998800" y="4065480"/>
            <a:ext cx="1116000" cy="711360"/>
          </a:xfrm>
          <a:custGeom>
            <a:avLst/>
            <a:gdLst/>
            <a:ahLst/>
            <a:rect l="l" t="t" r="r" b="b"/>
            <a:pathLst>
              <a:path w="624" h="400">
                <a:moveTo>
                  <a:pt x="0" y="400"/>
                </a:moveTo>
                <a:cubicBezTo>
                  <a:pt x="164" y="264"/>
                  <a:pt x="328" y="128"/>
                  <a:pt x="432" y="64"/>
                </a:cubicBezTo>
                <a:cubicBezTo>
                  <a:pt x="536" y="0"/>
                  <a:pt x="580" y="8"/>
                  <a:pt x="624" y="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965840" y="4102200"/>
            <a:ext cx="1066680" cy="685800"/>
          </a:xfrm>
          <a:custGeom>
            <a:avLst/>
            <a:gdLst/>
            <a:ahLst/>
            <a:rect l="l" t="t" r="r" b="b"/>
            <a:pathLst>
              <a:path w="672" h="432">
                <a:moveTo>
                  <a:pt x="0" y="0"/>
                </a:moveTo>
                <a:cubicBezTo>
                  <a:pt x="184" y="108"/>
                  <a:pt x="368" y="216"/>
                  <a:pt x="480" y="288"/>
                </a:cubicBezTo>
                <a:cubicBezTo>
                  <a:pt x="592" y="360"/>
                  <a:pt x="632" y="396"/>
                  <a:pt x="672" y="43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068800" y="4683240"/>
            <a:ext cx="876240" cy="21888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0" y="0"/>
                </a:moveTo>
                <a:cubicBezTo>
                  <a:pt x="172" y="52"/>
                  <a:pt x="344" y="104"/>
                  <a:pt x="432" y="144"/>
                </a:cubicBezTo>
                <a:cubicBezTo>
                  <a:pt x="520" y="184"/>
                  <a:pt x="524" y="212"/>
                  <a:pt x="528" y="24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494160" y="4684680"/>
            <a:ext cx="633240" cy="23328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240"/>
                </a:moveTo>
                <a:cubicBezTo>
                  <a:pt x="68" y="164"/>
                  <a:pt x="136" y="88"/>
                  <a:pt x="192" y="48"/>
                </a:cubicBezTo>
                <a:cubicBezTo>
                  <a:pt x="248" y="8"/>
                  <a:pt x="292" y="4"/>
                  <a:pt x="33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5029200" y="5486400"/>
            <a:ext cx="1332000" cy="63360"/>
          </a:xfrm>
          <a:custGeom>
            <a:avLst/>
            <a:gdLst/>
            <a:ahLst/>
            <a:rect l="l" t="t" r="r" b="b"/>
            <a:pathLst>
              <a:path w="864" h="1">
                <a:moveTo>
                  <a:pt x="0" y="0"/>
                </a:moveTo>
                <a:cubicBezTo>
                  <a:pt x="240" y="0"/>
                  <a:pt x="480" y="0"/>
                  <a:pt x="624" y="0"/>
                </a:cubicBezTo>
                <a:cubicBezTo>
                  <a:pt x="768" y="0"/>
                  <a:pt x="824" y="0"/>
                  <a:pt x="864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800600" y="2057400"/>
            <a:ext cx="990720" cy="609480"/>
          </a:xfrm>
          <a:custGeom>
            <a:avLst/>
            <a:gdLst/>
            <a:ahLst/>
            <a:rect l="l" t="t" r="r" b="b"/>
            <a:pathLst>
              <a:path w="672" h="384">
                <a:moveTo>
                  <a:pt x="0" y="0"/>
                </a:moveTo>
                <a:cubicBezTo>
                  <a:pt x="160" y="40"/>
                  <a:pt x="320" y="80"/>
                  <a:pt x="432" y="144"/>
                </a:cubicBezTo>
                <a:cubicBezTo>
                  <a:pt x="544" y="208"/>
                  <a:pt x="608" y="296"/>
                  <a:pt x="672" y="384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061040" y="5052960"/>
            <a:ext cx="771840" cy="206280"/>
          </a:xfrm>
          <a:custGeom>
            <a:avLst/>
            <a:gdLst/>
            <a:ahLst/>
            <a:rect l="l" t="t" r="r" b="b"/>
            <a:pathLst>
              <a:path w="432" h="160">
                <a:moveTo>
                  <a:pt x="0" y="0"/>
                </a:moveTo>
                <a:cubicBezTo>
                  <a:pt x="84" y="64"/>
                  <a:pt x="168" y="128"/>
                  <a:pt x="240" y="144"/>
                </a:cubicBezTo>
                <a:cubicBezTo>
                  <a:pt x="312" y="160"/>
                  <a:pt x="372" y="128"/>
                  <a:pt x="432" y="9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60440" y="309888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316404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Qu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676600" y="306540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36680" y="303840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986600" y="359892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420040" y="3649680"/>
            <a:ext cx="723960" cy="48744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997760" y="362268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626160" y="2986200"/>
            <a:ext cx="1206720" cy="69696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626240" y="4248000"/>
            <a:ext cx="785880" cy="48924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238880" y="420516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Friend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800840" y="4853160"/>
            <a:ext cx="1144800" cy="6616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696080" y="48769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nterru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514840" y="3639960"/>
            <a:ext cx="1192320" cy="73512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567480" y="3081240"/>
            <a:ext cx="1285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Conveni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(Meeting, 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419800" y="3649680"/>
            <a:ext cx="1282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Prop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276880" y="5943600"/>
            <a:ext cx="1098360" cy="220680"/>
          </a:xfrm>
          <a:custGeom>
            <a:avLst/>
            <a:gdLst/>
            <a:ahLst/>
            <a:rect l="l" t="t" r="r" b="b"/>
            <a:pathLst>
              <a:path w="692" h="139">
                <a:moveTo>
                  <a:pt x="0" y="132"/>
                </a:moveTo>
                <a:cubicBezTo>
                  <a:pt x="160" y="135"/>
                  <a:pt x="321" y="139"/>
                  <a:pt x="436" y="117"/>
                </a:cubicBezTo>
                <a:cubicBezTo>
                  <a:pt x="551" y="95"/>
                  <a:pt x="621" y="47"/>
                  <a:pt x="692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10D49-2310-40D0-8E3E-540961BBF5E1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SimSun"/>
              </a:rPr>
              <a:t>Scheduling meeting …with meeting schedul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276720" y="6248160"/>
            <a:ext cx="4952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Tahoma"/>
              <a:ea typeface="SimSu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453960" y="1219320"/>
            <a:ext cx="5627880" cy="462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71155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711552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7040" y="1222200"/>
            <a:ext cx="778104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59539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595392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48120" y="9907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 (p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508720" y="3386160"/>
            <a:ext cx="93348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oposed Date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rot="20340600">
            <a:off x="2286000" y="12193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4799880" y="1143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>
            <a:off x="4952160" y="48387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590920" y="46483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 (ip,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 flipV="1">
            <a:off x="987120" y="1979640"/>
            <a:ext cx="11588400" cy="228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81" y="4242"/>
                </a:moveTo>
                <a:arcTo wR="10800" hR="10800" stAng="-2243407" swAng="2207533"/>
                <a:lnTo>
                  <a:pt x="10800" y="10800"/>
                </a:lnTo>
                <a:close/>
              </a:path>
              <a:path fill="none" w="21600" h="21600">
                <a:moveTo>
                  <a:pt x="19381" y="4242"/>
                </a:moveTo>
                <a:arcTo wR="10800" hR="10800" stAng="-2243407" swAng="2207533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rot="1458000">
            <a:off x="3568680" y="21697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1751760" y="216072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6400080" y="20574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7261920" y="21477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rot="753000">
            <a:off x="4991040" y="345456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172200" y="4010040"/>
            <a:ext cx="108576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ment (m,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rot="1151400">
            <a:off x="5206320" y="397368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459720" y="1093320"/>
            <a:ext cx="11421360" cy="4669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878" y="799"/>
                </a:moveTo>
                <a:arcTo wR="10800" hR="10800" stAng="-4068995" swAng="4015336"/>
                <a:lnTo>
                  <a:pt x="10800" y="10800"/>
                </a:lnTo>
                <a:close/>
              </a:path>
              <a:path fill="none" w="21600" h="21600">
                <a:moveTo>
                  <a:pt x="14878" y="799"/>
                </a:moveTo>
                <a:arcTo wR="10800" hR="10800" stAng="-4068995" swAng="4015336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 rot="1745400">
            <a:off x="1878840" y="445572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 rot="20271600">
            <a:off x="7539840" y="39704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209680" y="205740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BeScheduled 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905120" y="350532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nterDateRange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791320" y="205740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nterAvailDates(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rot="20393400">
            <a:off x="6818400" y="34416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19942800">
            <a:off x="3417840" y="35571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rot="1189200">
            <a:off x="1447560" y="35049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rot="20133600">
            <a:off x="5333760" y="2082960"/>
            <a:ext cx="228600" cy="266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2438280"/>
            <a:ext cx="114300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59840" y="2743200"/>
            <a:ext cx="79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niti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620120" y="228600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467480" y="4876920"/>
            <a:ext cx="1143000" cy="10666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448400" y="518148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Import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8264520" y="380988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  <a:ea typeface="SimSun"/>
              </a:rPr>
              <a:t>I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677000" y="259092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8129520" y="3328920"/>
            <a:ext cx="0" cy="157320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990720" y="2260440"/>
            <a:ext cx="1255680" cy="330480"/>
          </a:xfrm>
          <a:custGeom>
            <a:avLst/>
            <a:gdLst/>
            <a:ahLst/>
            <a:rect l="l" t="t" r="r" b="b"/>
            <a:pathLst>
              <a:path w="816" h="192">
                <a:moveTo>
                  <a:pt x="0" y="192"/>
                </a:moveTo>
                <a:cubicBezTo>
                  <a:pt x="124" y="136"/>
                  <a:pt x="248" y="80"/>
                  <a:pt x="384" y="48"/>
                </a:cubicBezTo>
                <a:cubicBezTo>
                  <a:pt x="520" y="16"/>
                  <a:pt x="744" y="8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314880" y="2235240"/>
            <a:ext cx="838080" cy="304920"/>
          </a:xfrm>
          <a:custGeom>
            <a:avLst/>
            <a:gdLst/>
            <a:ahLst/>
            <a:rect l="l" t="t" r="r" b="b"/>
            <a:pathLst>
              <a:path w="528" h="240">
                <a:moveTo>
                  <a:pt x="0" y="0"/>
                </a:moveTo>
                <a:cubicBezTo>
                  <a:pt x="172" y="52"/>
                  <a:pt x="344" y="104"/>
                  <a:pt x="432" y="144"/>
                </a:cubicBezTo>
                <a:cubicBezTo>
                  <a:pt x="520" y="184"/>
                  <a:pt x="524" y="212"/>
                  <a:pt x="528" y="24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3505320"/>
            <a:ext cx="930240" cy="228600"/>
          </a:xfrm>
          <a:custGeom>
            <a:avLst/>
            <a:gdLst/>
            <a:ahLst/>
            <a:rect l="l" t="t" r="r" b="b"/>
            <a:pathLst>
              <a:path w="672" h="96">
                <a:moveTo>
                  <a:pt x="0" y="96"/>
                </a:moveTo>
                <a:cubicBezTo>
                  <a:pt x="184" y="80"/>
                  <a:pt x="368" y="64"/>
                  <a:pt x="480" y="48"/>
                </a:cubicBezTo>
                <a:cubicBezTo>
                  <a:pt x="592" y="32"/>
                  <a:pt x="632" y="16"/>
                  <a:pt x="672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037280" y="2249640"/>
            <a:ext cx="735120" cy="26496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88" y="12"/>
                  <a:pt x="176" y="24"/>
                  <a:pt x="240" y="48"/>
                </a:cubicBezTo>
                <a:cubicBezTo>
                  <a:pt x="304" y="72"/>
                  <a:pt x="344" y="108"/>
                  <a:pt x="384" y="144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648720" y="684000"/>
            <a:ext cx="6093360" cy="426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598" y="690"/>
                </a:moveTo>
                <a:arcTo wR="10800" hR="10800" stAng="-4164595" swAng="3076182"/>
                <a:lnTo>
                  <a:pt x="10800" y="10800"/>
                </a:lnTo>
                <a:close/>
              </a:path>
              <a:path fill="none" w="21600" h="21600">
                <a:moveTo>
                  <a:pt x="14598" y="690"/>
                </a:moveTo>
                <a:arcTo wR="10800" hR="10800" stAng="-4164595" swAng="3076182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657600" y="4876920"/>
            <a:ext cx="3946680" cy="257040"/>
          </a:xfrm>
          <a:custGeom>
            <a:avLst/>
            <a:gdLst/>
            <a:ahLst/>
            <a:rect l="l" t="t" r="r" b="b"/>
            <a:pathLst>
              <a:path w="2448" h="168">
                <a:moveTo>
                  <a:pt x="0" y="0"/>
                </a:moveTo>
                <a:cubicBezTo>
                  <a:pt x="756" y="60"/>
                  <a:pt x="1512" y="120"/>
                  <a:pt x="1920" y="144"/>
                </a:cubicBezTo>
                <a:cubicBezTo>
                  <a:pt x="2328" y="168"/>
                  <a:pt x="2388" y="156"/>
                  <a:pt x="2448" y="144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562720" y="5702400"/>
            <a:ext cx="2017440" cy="101520"/>
          </a:xfrm>
          <a:custGeom>
            <a:avLst/>
            <a:gdLst/>
            <a:ahLst/>
            <a:rect l="l" t="t" r="r" b="b"/>
            <a:pathLst>
              <a:path w="1248" h="56">
                <a:moveTo>
                  <a:pt x="0" y="48"/>
                </a:moveTo>
                <a:cubicBezTo>
                  <a:pt x="256" y="52"/>
                  <a:pt x="512" y="56"/>
                  <a:pt x="720" y="48"/>
                </a:cubicBezTo>
                <a:cubicBezTo>
                  <a:pt x="928" y="40"/>
                  <a:pt x="1088" y="20"/>
                  <a:pt x="124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H="1" rot="1260000">
            <a:off x="2284920" y="50288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6027120" y="56386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453320" y="4038480"/>
            <a:ext cx="13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Comic Sans MS"/>
                <a:ea typeface="SimSu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919680" y="5213520"/>
            <a:ext cx="1749240" cy="10810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038480" y="5410080"/>
            <a:ext cx="1505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ssu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Attend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(ip,m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522680" y="3484440"/>
            <a:ext cx="1681200" cy="766800"/>
          </a:xfrm>
          <a:custGeom>
            <a:avLst/>
            <a:gdLst/>
            <a:ahLst/>
            <a:rect l="l" t="t" r="r" b="b"/>
            <a:pathLst>
              <a:path w="1051" h="436">
                <a:moveTo>
                  <a:pt x="0" y="0"/>
                </a:moveTo>
                <a:cubicBezTo>
                  <a:pt x="76" y="111"/>
                  <a:pt x="152" y="223"/>
                  <a:pt x="327" y="296"/>
                </a:cubicBezTo>
                <a:cubicBezTo>
                  <a:pt x="502" y="369"/>
                  <a:pt x="776" y="402"/>
                  <a:pt x="1051" y="43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191360" y="3298680"/>
            <a:ext cx="828720" cy="951120"/>
          </a:xfrm>
          <a:custGeom>
            <a:avLst/>
            <a:gdLst/>
            <a:ahLst/>
            <a:rect l="l" t="t" r="r" b="b"/>
            <a:pathLst>
              <a:path w="491" h="615">
                <a:moveTo>
                  <a:pt x="491" y="0"/>
                </a:moveTo>
                <a:cubicBezTo>
                  <a:pt x="442" y="202"/>
                  <a:pt x="394" y="404"/>
                  <a:pt x="312" y="506"/>
                </a:cubicBezTo>
                <a:cubicBezTo>
                  <a:pt x="230" y="608"/>
                  <a:pt x="52" y="597"/>
                  <a:pt x="0" y="615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660920" y="3311640"/>
            <a:ext cx="841320" cy="296640"/>
          </a:xfrm>
          <a:custGeom>
            <a:avLst/>
            <a:gdLst/>
            <a:ahLst/>
            <a:rect l="l" t="t" r="r" b="b"/>
            <a:pathLst>
              <a:path w="491" h="187">
                <a:moveTo>
                  <a:pt x="0" y="0"/>
                </a:moveTo>
                <a:cubicBezTo>
                  <a:pt x="41" y="58"/>
                  <a:pt x="82" y="117"/>
                  <a:pt x="164" y="148"/>
                </a:cubicBezTo>
                <a:cubicBezTo>
                  <a:pt x="246" y="179"/>
                  <a:pt x="368" y="183"/>
                  <a:pt x="491" y="187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338880" y="3114720"/>
            <a:ext cx="1397160" cy="515880"/>
          </a:xfrm>
          <a:custGeom>
            <a:avLst/>
            <a:gdLst/>
            <a:ahLst/>
            <a:rect l="l" t="t" r="r" b="b"/>
            <a:pathLst>
              <a:path w="880" h="325">
                <a:moveTo>
                  <a:pt x="880" y="0"/>
                </a:moveTo>
                <a:cubicBezTo>
                  <a:pt x="739" y="109"/>
                  <a:pt x="599" y="219"/>
                  <a:pt x="452" y="272"/>
                </a:cubicBezTo>
                <a:cubicBezTo>
                  <a:pt x="305" y="325"/>
                  <a:pt x="152" y="322"/>
                  <a:pt x="0" y="319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559400" y="2192400"/>
            <a:ext cx="1320840" cy="414360"/>
          </a:xfrm>
          <a:custGeom>
            <a:avLst/>
            <a:gdLst/>
            <a:ahLst/>
            <a:rect l="l" t="t" r="r" b="b"/>
            <a:pathLst>
              <a:path w="856" h="261">
                <a:moveTo>
                  <a:pt x="0" y="261"/>
                </a:moveTo>
                <a:cubicBezTo>
                  <a:pt x="174" y="173"/>
                  <a:pt x="348" y="86"/>
                  <a:pt x="491" y="43"/>
                </a:cubicBezTo>
                <a:cubicBezTo>
                  <a:pt x="634" y="0"/>
                  <a:pt x="745" y="2"/>
                  <a:pt x="856" y="5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719520" y="2476440"/>
            <a:ext cx="114300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775320" y="2701800"/>
            <a:ext cx="105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51F5E-2230-4B8B-A5C4-1FCDCE83891F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SimSu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SimSu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  <a:ea typeface="SimSun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Strategic Rationale” Model 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SimSun"/>
              </a:rPr>
              <a:t>with Meeting Schedu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503000" y="2522160"/>
            <a:ext cx="4282200" cy="246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107" y="519"/>
                </a:moveTo>
                <a:arcTo wR="10800" hR="10800" stAng="-4330129" swAng="2066931"/>
                <a:lnTo>
                  <a:pt x="10800" y="10800"/>
                </a:lnTo>
                <a:close/>
              </a:path>
              <a:path fill="none" w="21600" h="21600">
                <a:moveTo>
                  <a:pt x="14107" y="519"/>
                </a:moveTo>
                <a:arcTo wR="10800" hR="10800" stAng="-4330129" swAng="2066931"/>
              </a:path>
            </a:pathLst>
          </a:cu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H="1">
            <a:off x="2593080" y="29210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2593080" y="2502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267080" y="6019920"/>
            <a:ext cx="10861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3428280" y="22860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438280" y="523224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1905120" y="2895480"/>
            <a:ext cx="75960" cy="4572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828800" y="3048120"/>
            <a:ext cx="3049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838080" y="2743200"/>
            <a:ext cx="609840" cy="6094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219320" y="2819520"/>
            <a:ext cx="22860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438280" y="2743200"/>
            <a:ext cx="533520" cy="4572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2514600" y="2742840"/>
            <a:ext cx="22860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H="1">
            <a:off x="2362320" y="4470480"/>
            <a:ext cx="45720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200400" y="4470480"/>
            <a:ext cx="0" cy="685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590920" y="4470480"/>
            <a:ext cx="228600" cy="152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048120" y="4622760"/>
            <a:ext cx="30456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038480" y="9907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ttend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450040" y="957240"/>
            <a:ext cx="3744720" cy="5715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6781680" y="1828800"/>
            <a:ext cx="1295640" cy="507960"/>
          </a:xfrm>
          <a:prstGeom prst="hexagon">
            <a:avLst>
              <a:gd name="adj" fmla="val 33595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teIn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153280" y="2590920"/>
            <a:ext cx="990720" cy="507960"/>
          </a:xfrm>
          <a:prstGeom prst="hexagon">
            <a:avLst>
              <a:gd name="adj" fmla="val 25689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rrang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010280" y="37339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Agreeable (Meeting, D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3600" y="4724280"/>
            <a:ext cx="1219320" cy="914400"/>
          </a:xfrm>
          <a:prstGeom prst="hexagon">
            <a:avLst>
              <a:gd name="adj" fmla="val 33337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Agreeable Date Using Schedu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400800" y="609588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greeTo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 flipV="1">
            <a:off x="7986240" y="2236680"/>
            <a:ext cx="700200" cy="355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8059680" y="2211120"/>
            <a:ext cx="92160" cy="153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7848720" y="3100320"/>
            <a:ext cx="711000" cy="633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8763120" y="3098880"/>
            <a:ext cx="0" cy="6350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8394840" y="3174840"/>
            <a:ext cx="75960" cy="763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8686800" y="320040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5638680"/>
            <a:ext cx="0" cy="4572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8403840" y="48909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654600" y="4275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694360" y="4038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267080" y="5486400"/>
            <a:ext cx="990720" cy="495360"/>
          </a:xfrm>
          <a:prstGeom prst="rect">
            <a:avLst/>
          </a:prstGeom>
          <a:solidFill>
            <a:srgbClr val="ff7c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roposed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5550840" y="621360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5436360" y="442764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254160" y="917640"/>
            <a:ext cx="3504960" cy="28191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80880" y="609480"/>
            <a:ext cx="1073160" cy="87660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 Initi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23880" y="106668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rganiz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295280" y="190512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 Be Schedu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62120" y="281952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981080" y="2971800"/>
            <a:ext cx="1219320" cy="660240"/>
          </a:xfrm>
          <a:prstGeom prst="hexagon">
            <a:avLst>
              <a:gd name="adj" fmla="val 24324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Let Scheduler Schedule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715000" y="243828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Attend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62920" y="5105520"/>
            <a:ext cx="1218960" cy="914400"/>
          </a:xfrm>
          <a:prstGeom prst="hexagon">
            <a:avLst>
              <a:gd name="adj" fmla="val 1755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F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Agreeable Date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Talking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Init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6321600" y="2133360"/>
            <a:ext cx="510840" cy="2919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680160" y="2119320"/>
            <a:ext cx="101520" cy="166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7518240" y="2322000"/>
            <a:ext cx="1800" cy="560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467480" y="2438280"/>
            <a:ext cx="15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560640" y="2895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6858000" y="4229280"/>
            <a:ext cx="496800" cy="4950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580160" y="4216320"/>
            <a:ext cx="344520" cy="8892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51600" y="4648320"/>
            <a:ext cx="76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315200" y="480060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1523880" y="3860640"/>
            <a:ext cx="2514600" cy="3048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600200" y="492768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Find  Agreeable S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33720" y="5460840"/>
            <a:ext cx="1295280" cy="508320"/>
          </a:xfrm>
          <a:prstGeom prst="hexagon">
            <a:avLst>
              <a:gd name="adj" fmla="val 33562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Obtain Agre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828800" y="601992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rge Available D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286000" y="4165560"/>
            <a:ext cx="1143000" cy="507960"/>
          </a:xfrm>
          <a:prstGeom prst="hexagon">
            <a:avLst>
              <a:gd name="adj" fmla="val 2963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505320" y="3429000"/>
            <a:ext cx="1092240" cy="50796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MeetingBeSchedu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267080" y="4267080"/>
            <a:ext cx="1067040" cy="507960"/>
          </a:xfrm>
          <a:prstGeom prst="hexagon">
            <a:avLst>
              <a:gd name="adj" fmla="val 27668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5800" y="3809880"/>
            <a:ext cx="1295280" cy="507960"/>
          </a:xfrm>
          <a:prstGeom prst="hexagon">
            <a:avLst>
              <a:gd name="adj" fmla="val 33586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nterDateRa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1028880" y="1447560"/>
            <a:ext cx="571320" cy="25236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V="1">
            <a:off x="1981080" y="1599840"/>
            <a:ext cx="0" cy="304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2590920" y="1447920"/>
            <a:ext cx="457200" cy="3808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1218960" y="2387520"/>
            <a:ext cx="585720" cy="43200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033640" y="2400480"/>
            <a:ext cx="749160" cy="54576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055680" y="2514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074240" y="2209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609480" y="2438280"/>
            <a:ext cx="15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66880" y="2514600"/>
            <a:ext cx="15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1978200" y="4647960"/>
            <a:ext cx="536400" cy="253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2819520" y="4673160"/>
            <a:ext cx="1440" cy="7873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3200040" y="4698720"/>
            <a:ext cx="304920" cy="2286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298600" y="4660920"/>
            <a:ext cx="114480" cy="152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43200" y="477504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3223800" y="4699080"/>
            <a:ext cx="103320" cy="112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1878120" y="5410080"/>
            <a:ext cx="203040" cy="611280"/>
          </a:xfrm>
          <a:prstGeom prst="line">
            <a:avLst/>
          </a:prstGeom>
          <a:ln w="3816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885480" y="61722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124080" y="4927680"/>
            <a:ext cx="914400" cy="507960"/>
          </a:xfrm>
          <a:prstGeom prst="hexagon">
            <a:avLst>
              <a:gd name="adj" fmla="val 23710"/>
              <a:gd name="vf" fmla="val 115470"/>
            </a:avLst>
          </a:prstGeom>
          <a:solidFill>
            <a:srgbClr val="99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Obtain Av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D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H="1">
            <a:off x="3391920" y="31734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 rot="20244000">
            <a:off x="4023720" y="450360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rot="17113800">
            <a:off x="3676680" y="409536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 rot="18917400">
            <a:off x="1371240" y="342900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905120" y="167652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705720" y="5791320"/>
            <a:ext cx="15228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3504600" y="93996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 rot="1137600">
            <a:off x="5561640" y="1219320"/>
            <a:ext cx="228600" cy="266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rot="1510800">
            <a:off x="3676680" y="55432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09480" y="1600200"/>
            <a:ext cx="685800" cy="533520"/>
          </a:xfrm>
          <a:custGeom>
            <a:avLst/>
            <a:gdLst/>
            <a:ahLst/>
            <a:rect l="l" t="t" r="r" b="b"/>
            <a:pathLst>
              <a:path w="544" h="584">
                <a:moveTo>
                  <a:pt x="40" y="144"/>
                </a:moveTo>
                <a:cubicBezTo>
                  <a:pt x="56" y="64"/>
                  <a:pt x="88" y="0"/>
                  <a:pt x="136" y="0"/>
                </a:cubicBezTo>
                <a:cubicBezTo>
                  <a:pt x="184" y="0"/>
                  <a:pt x="264" y="128"/>
                  <a:pt x="328" y="144"/>
                </a:cubicBezTo>
                <a:cubicBezTo>
                  <a:pt x="392" y="160"/>
                  <a:pt x="496" y="32"/>
                  <a:pt x="520" y="96"/>
                </a:cubicBezTo>
                <a:cubicBezTo>
                  <a:pt x="544" y="160"/>
                  <a:pt x="512" y="472"/>
                  <a:pt x="472" y="528"/>
                </a:cubicBezTo>
                <a:cubicBezTo>
                  <a:pt x="432" y="584"/>
                  <a:pt x="352" y="440"/>
                  <a:pt x="280" y="432"/>
                </a:cubicBezTo>
                <a:cubicBezTo>
                  <a:pt x="208" y="424"/>
                  <a:pt x="80" y="528"/>
                  <a:pt x="40" y="480"/>
                </a:cubicBezTo>
                <a:cubicBezTo>
                  <a:pt x="0" y="432"/>
                  <a:pt x="24" y="224"/>
                  <a:pt x="40" y="144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28600" y="167652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Qui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438280" y="1676520"/>
            <a:ext cx="1143000" cy="685800"/>
          </a:xfrm>
          <a:custGeom>
            <a:avLst/>
            <a:gdLst/>
            <a:ahLst/>
            <a:rect l="l" t="t" r="r" b="b"/>
            <a:pathLst>
              <a:path w="544" h="584">
                <a:moveTo>
                  <a:pt x="40" y="144"/>
                </a:moveTo>
                <a:cubicBezTo>
                  <a:pt x="56" y="64"/>
                  <a:pt x="88" y="0"/>
                  <a:pt x="136" y="0"/>
                </a:cubicBezTo>
                <a:cubicBezTo>
                  <a:pt x="184" y="0"/>
                  <a:pt x="264" y="128"/>
                  <a:pt x="328" y="144"/>
                </a:cubicBezTo>
                <a:cubicBezTo>
                  <a:pt x="392" y="160"/>
                  <a:pt x="496" y="32"/>
                  <a:pt x="520" y="96"/>
                </a:cubicBezTo>
                <a:cubicBezTo>
                  <a:pt x="544" y="160"/>
                  <a:pt x="512" y="472"/>
                  <a:pt x="472" y="528"/>
                </a:cubicBezTo>
                <a:cubicBezTo>
                  <a:pt x="432" y="584"/>
                  <a:pt x="352" y="440"/>
                  <a:pt x="280" y="432"/>
                </a:cubicBezTo>
                <a:cubicBezTo>
                  <a:pt x="208" y="424"/>
                  <a:pt x="80" y="528"/>
                  <a:pt x="40" y="480"/>
                </a:cubicBezTo>
                <a:cubicBezTo>
                  <a:pt x="0" y="432"/>
                  <a:pt x="24" y="224"/>
                  <a:pt x="40" y="144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286000" y="1828800"/>
            <a:ext cx="1504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411200" y="1424160"/>
            <a:ext cx="74880" cy="172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2614320" y="1447920"/>
            <a:ext cx="128520" cy="1285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685800" y="2057400"/>
            <a:ext cx="228600" cy="762120"/>
          </a:xfrm>
          <a:custGeom>
            <a:avLst/>
            <a:gdLst/>
            <a:ahLst/>
            <a:rect l="l" t="t" r="r" b="b"/>
            <a:pathLst>
              <a:path w="240" h="576">
                <a:moveTo>
                  <a:pt x="240" y="576"/>
                </a:moveTo>
                <a:cubicBezTo>
                  <a:pt x="188" y="504"/>
                  <a:pt x="136" y="432"/>
                  <a:pt x="96" y="336"/>
                </a:cubicBezTo>
                <a:cubicBezTo>
                  <a:pt x="56" y="240"/>
                  <a:pt x="16" y="56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988920" y="2004840"/>
            <a:ext cx="1144800" cy="943200"/>
          </a:xfrm>
          <a:custGeom>
            <a:avLst/>
            <a:gdLst/>
            <a:ahLst/>
            <a:rect l="l" t="t" r="r" b="b"/>
            <a:pathLst>
              <a:path w="768" h="624">
                <a:moveTo>
                  <a:pt x="768" y="624"/>
                </a:moveTo>
                <a:cubicBezTo>
                  <a:pt x="544" y="556"/>
                  <a:pt x="320" y="488"/>
                  <a:pt x="192" y="384"/>
                </a:cubicBezTo>
                <a:cubicBezTo>
                  <a:pt x="64" y="280"/>
                  <a:pt x="32" y="140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828800" y="2209680"/>
            <a:ext cx="1143000" cy="762120"/>
          </a:xfrm>
          <a:custGeom>
            <a:avLst/>
            <a:gdLst/>
            <a:ahLst/>
            <a:rect l="l" t="t" r="r" b="b"/>
            <a:pathLst>
              <a:path w="816" h="480">
                <a:moveTo>
                  <a:pt x="0" y="480"/>
                </a:moveTo>
                <a:cubicBezTo>
                  <a:pt x="148" y="424"/>
                  <a:pt x="296" y="368"/>
                  <a:pt x="432" y="288"/>
                </a:cubicBezTo>
                <a:cubicBezTo>
                  <a:pt x="568" y="208"/>
                  <a:pt x="692" y="104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895480" y="2286000"/>
            <a:ext cx="381240" cy="685800"/>
          </a:xfrm>
          <a:custGeom>
            <a:avLst/>
            <a:gdLst/>
            <a:ahLst/>
            <a:rect l="l" t="t" r="r" b="b"/>
            <a:pathLst>
              <a:path w="240" h="432">
                <a:moveTo>
                  <a:pt x="0" y="432"/>
                </a:moveTo>
                <a:cubicBezTo>
                  <a:pt x="76" y="348"/>
                  <a:pt x="152" y="264"/>
                  <a:pt x="192" y="192"/>
                </a:cubicBezTo>
                <a:cubicBezTo>
                  <a:pt x="232" y="120"/>
                  <a:pt x="236" y="60"/>
                  <a:pt x="24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582040" y="4038480"/>
            <a:ext cx="104760" cy="406440"/>
          </a:xfrm>
          <a:custGeom>
            <a:avLst/>
            <a:gdLst/>
            <a:ahLst/>
            <a:rect l="l" t="t" r="r" b="b"/>
            <a:pathLst>
              <a:path w="144" h="192">
                <a:moveTo>
                  <a:pt x="0" y="192"/>
                </a:moveTo>
                <a:cubicBezTo>
                  <a:pt x="36" y="160"/>
                  <a:pt x="72" y="128"/>
                  <a:pt x="96" y="96"/>
                </a:cubicBezTo>
                <a:cubicBezTo>
                  <a:pt x="120" y="64"/>
                  <a:pt x="132" y="32"/>
                  <a:pt x="144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43600" y="3046320"/>
            <a:ext cx="1069920" cy="154080"/>
          </a:xfrm>
          <a:custGeom>
            <a:avLst/>
            <a:gdLst/>
            <a:ahLst/>
            <a:rect l="l" t="t" r="r" b="b"/>
            <a:pathLst>
              <a:path w="576" h="144">
                <a:moveTo>
                  <a:pt x="0" y="144"/>
                </a:moveTo>
                <a:cubicBezTo>
                  <a:pt x="48" y="108"/>
                  <a:pt x="96" y="72"/>
                  <a:pt x="192" y="48"/>
                </a:cubicBezTo>
                <a:cubicBezTo>
                  <a:pt x="288" y="24"/>
                  <a:pt x="432" y="12"/>
                  <a:pt x="57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975280" y="3706920"/>
            <a:ext cx="231840" cy="39672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88" y="384"/>
                </a:moveTo>
                <a:cubicBezTo>
                  <a:pt x="192" y="320"/>
                  <a:pt x="96" y="256"/>
                  <a:pt x="48" y="192"/>
                </a:cubicBezTo>
                <a:cubicBezTo>
                  <a:pt x="0" y="128"/>
                  <a:pt x="0" y="64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765400" y="37101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010280" y="4599000"/>
            <a:ext cx="1078200" cy="353880"/>
          </a:xfrm>
          <a:custGeom>
            <a:avLst/>
            <a:gdLst/>
            <a:ahLst/>
            <a:rect l="l" t="t" r="r" b="b"/>
            <a:pathLst>
              <a:path w="576" h="192">
                <a:moveTo>
                  <a:pt x="0" y="192"/>
                </a:moveTo>
                <a:cubicBezTo>
                  <a:pt x="168" y="160"/>
                  <a:pt x="336" y="128"/>
                  <a:pt x="432" y="96"/>
                </a:cubicBezTo>
                <a:cubicBezTo>
                  <a:pt x="528" y="64"/>
                  <a:pt x="552" y="32"/>
                  <a:pt x="57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523200" y="4392720"/>
            <a:ext cx="1068120" cy="714240"/>
          </a:xfrm>
          <a:custGeom>
            <a:avLst/>
            <a:gdLst/>
            <a:ahLst/>
            <a:rect l="l" t="t" r="r" b="b"/>
            <a:pathLst>
              <a:path w="528" h="576">
                <a:moveTo>
                  <a:pt x="528" y="576"/>
                </a:moveTo>
                <a:cubicBezTo>
                  <a:pt x="452" y="504"/>
                  <a:pt x="376" y="432"/>
                  <a:pt x="288" y="336"/>
                </a:cubicBezTo>
                <a:cubicBezTo>
                  <a:pt x="200" y="240"/>
                  <a:pt x="100" y="120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305920" y="4789440"/>
            <a:ext cx="220680" cy="54468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0" y="288"/>
                </a:moveTo>
                <a:cubicBezTo>
                  <a:pt x="48" y="264"/>
                  <a:pt x="96" y="240"/>
                  <a:pt x="144" y="192"/>
                </a:cubicBezTo>
                <a:cubicBezTo>
                  <a:pt x="192" y="144"/>
                  <a:pt x="240" y="72"/>
                  <a:pt x="28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603520" y="1066680"/>
            <a:ext cx="1523880" cy="189000"/>
          </a:xfrm>
          <a:custGeom>
            <a:avLst/>
            <a:gdLst/>
            <a:ahLst/>
            <a:rect l="l" t="t" r="r" b="b"/>
            <a:pathLst>
              <a:path w="960" h="112">
                <a:moveTo>
                  <a:pt x="0" y="112"/>
                </a:moveTo>
                <a:cubicBezTo>
                  <a:pt x="136" y="72"/>
                  <a:pt x="272" y="32"/>
                  <a:pt x="432" y="16"/>
                </a:cubicBezTo>
                <a:cubicBezTo>
                  <a:pt x="592" y="0"/>
                  <a:pt x="776" y="8"/>
                  <a:pt x="960" y="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105520" y="1143000"/>
            <a:ext cx="1003320" cy="1295280"/>
          </a:xfrm>
          <a:custGeom>
            <a:avLst/>
            <a:gdLst/>
            <a:ahLst/>
            <a:rect l="l" t="t" r="r" b="b"/>
            <a:pathLst>
              <a:path w="632" h="816">
                <a:moveTo>
                  <a:pt x="0" y="0"/>
                </a:moveTo>
                <a:cubicBezTo>
                  <a:pt x="212" y="52"/>
                  <a:pt x="424" y="104"/>
                  <a:pt x="528" y="240"/>
                </a:cubicBezTo>
                <a:cubicBezTo>
                  <a:pt x="632" y="376"/>
                  <a:pt x="628" y="596"/>
                  <a:pt x="624" y="8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095880" y="914400"/>
            <a:ext cx="1079640" cy="103032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153120" y="1219320"/>
            <a:ext cx="104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Particip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09480" y="5232240"/>
            <a:ext cx="1143000" cy="10670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12800" y="551340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74840" y="3325680"/>
            <a:ext cx="635040" cy="103320"/>
          </a:xfrm>
          <a:custGeom>
            <a:avLst/>
            <a:gdLst/>
            <a:ahLst/>
            <a:rect l="l" t="t" r="r" b="b"/>
            <a:pathLst>
              <a:path w="384" h="112">
                <a:moveTo>
                  <a:pt x="0" y="16"/>
                </a:moveTo>
                <a:cubicBezTo>
                  <a:pt x="88" y="8"/>
                  <a:pt x="176" y="0"/>
                  <a:pt x="240" y="16"/>
                </a:cubicBezTo>
                <a:cubicBezTo>
                  <a:pt x="304" y="32"/>
                  <a:pt x="344" y="72"/>
                  <a:pt x="384" y="11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rot="21456000">
            <a:off x="3317760" y="3938760"/>
            <a:ext cx="619200" cy="604800"/>
          </a:xfrm>
          <a:custGeom>
            <a:avLst/>
            <a:gdLst/>
            <a:ahLst/>
            <a:rect l="l" t="t" r="r" b="b"/>
            <a:pathLst>
              <a:path w="336" h="288">
                <a:moveTo>
                  <a:pt x="336" y="0"/>
                </a:moveTo>
                <a:cubicBezTo>
                  <a:pt x="292" y="96"/>
                  <a:pt x="248" y="192"/>
                  <a:pt x="192" y="240"/>
                </a:cubicBezTo>
                <a:cubicBezTo>
                  <a:pt x="136" y="288"/>
                  <a:pt x="68" y="288"/>
                  <a:pt x="0" y="288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295280" y="3381480"/>
            <a:ext cx="750960" cy="428400"/>
          </a:xfrm>
          <a:custGeom>
            <a:avLst/>
            <a:gdLst/>
            <a:ahLst/>
            <a:rect l="l" t="t" r="r" b="b"/>
            <a:pathLst>
              <a:path w="432" h="240">
                <a:moveTo>
                  <a:pt x="432" y="0"/>
                </a:moveTo>
                <a:cubicBezTo>
                  <a:pt x="324" y="4"/>
                  <a:pt x="216" y="8"/>
                  <a:pt x="144" y="48"/>
                </a:cubicBezTo>
                <a:cubicBezTo>
                  <a:pt x="72" y="88"/>
                  <a:pt x="36" y="164"/>
                  <a:pt x="0" y="24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371600" y="4292640"/>
            <a:ext cx="988920" cy="252360"/>
          </a:xfrm>
          <a:custGeom>
            <a:avLst/>
            <a:gdLst/>
            <a:ahLst/>
            <a:rect l="l" t="t" r="r" b="b"/>
            <a:pathLst>
              <a:path w="672" h="224">
                <a:moveTo>
                  <a:pt x="0" y="0"/>
                </a:moveTo>
                <a:cubicBezTo>
                  <a:pt x="64" y="80"/>
                  <a:pt x="128" y="160"/>
                  <a:pt x="240" y="192"/>
                </a:cubicBezTo>
                <a:cubicBezTo>
                  <a:pt x="352" y="224"/>
                  <a:pt x="512" y="208"/>
                  <a:pt x="672" y="19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rot="21033600">
            <a:off x="1600200" y="4343400"/>
            <a:ext cx="22860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672000" y="4614840"/>
            <a:ext cx="657000" cy="30024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0" y="336"/>
                </a:moveTo>
                <a:cubicBezTo>
                  <a:pt x="44" y="244"/>
                  <a:pt x="88" y="152"/>
                  <a:pt x="144" y="96"/>
                </a:cubicBezTo>
                <a:cubicBezTo>
                  <a:pt x="200" y="40"/>
                  <a:pt x="268" y="20"/>
                  <a:pt x="336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295960" y="4565520"/>
            <a:ext cx="814320" cy="393840"/>
          </a:xfrm>
          <a:custGeom>
            <a:avLst/>
            <a:gdLst/>
            <a:ahLst/>
            <a:rect l="l" t="t" r="r" b="b"/>
            <a:pathLst>
              <a:path w="576" h="288">
                <a:moveTo>
                  <a:pt x="0" y="0"/>
                </a:moveTo>
                <a:cubicBezTo>
                  <a:pt x="96" y="0"/>
                  <a:pt x="192" y="0"/>
                  <a:pt x="288" y="48"/>
                </a:cubicBezTo>
                <a:cubicBezTo>
                  <a:pt x="384" y="96"/>
                  <a:pt x="480" y="192"/>
                  <a:pt x="576" y="288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301920" y="5891040"/>
            <a:ext cx="1041480" cy="43344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0"/>
                </a:moveTo>
                <a:cubicBezTo>
                  <a:pt x="88" y="96"/>
                  <a:pt x="176" y="192"/>
                  <a:pt x="288" y="240"/>
                </a:cubicBezTo>
                <a:cubicBezTo>
                  <a:pt x="400" y="288"/>
                  <a:pt x="536" y="288"/>
                  <a:pt x="672" y="288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359320" y="6311880"/>
            <a:ext cx="1067040" cy="76320"/>
          </a:xfrm>
          <a:custGeom>
            <a:avLst/>
            <a:gdLst/>
            <a:ahLst/>
            <a:rect l="l" t="t" r="r" b="b"/>
            <a:pathLst>
              <a:path w="768" h="56">
                <a:moveTo>
                  <a:pt x="0" y="48"/>
                </a:moveTo>
                <a:cubicBezTo>
                  <a:pt x="176" y="52"/>
                  <a:pt x="352" y="56"/>
                  <a:pt x="480" y="48"/>
                </a:cubicBezTo>
                <a:cubicBezTo>
                  <a:pt x="608" y="40"/>
                  <a:pt x="688" y="20"/>
                  <a:pt x="768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948040" y="4662360"/>
            <a:ext cx="225360" cy="446040"/>
          </a:xfrm>
          <a:custGeom>
            <a:avLst/>
            <a:gdLst/>
            <a:ahLst/>
            <a:rect l="l" t="t" r="r" b="b"/>
            <a:pathLst>
              <a:path w="48" h="192">
                <a:moveTo>
                  <a:pt x="0" y="0"/>
                </a:moveTo>
                <a:cubicBezTo>
                  <a:pt x="20" y="80"/>
                  <a:pt x="40" y="160"/>
                  <a:pt x="48" y="192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rot="51600">
            <a:off x="5418000" y="5649480"/>
            <a:ext cx="228600" cy="26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085240" y="438480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427720" y="3084480"/>
            <a:ext cx="1181160" cy="73512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257800" y="3200400"/>
            <a:ext cx="1504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(Proposed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996240" y="2762280"/>
            <a:ext cx="1206360" cy="69696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934320" y="2819520"/>
            <a:ext cx="1371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Conveni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  <a:ea typeface="SimSun"/>
              </a:rPr>
              <a:t>(Meeting, 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211960" y="363204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848720" y="3581280"/>
            <a:ext cx="150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696080" y="4343400"/>
            <a:ext cx="15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Friend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824440" y="4027320"/>
            <a:ext cx="723960" cy="476280"/>
          </a:xfrm>
          <a:custGeom>
            <a:avLst/>
            <a:gdLst/>
            <a:ahLst/>
            <a:rect l="l" t="t" r="r" b="b"/>
            <a:pathLst>
              <a:path w="1102" h="697">
                <a:moveTo>
                  <a:pt x="78" y="152"/>
                </a:moveTo>
                <a:cubicBezTo>
                  <a:pt x="111" y="55"/>
                  <a:pt x="178" y="27"/>
                  <a:pt x="278" y="14"/>
                </a:cubicBezTo>
                <a:cubicBezTo>
                  <a:pt x="378" y="1"/>
                  <a:pt x="551" y="65"/>
                  <a:pt x="680" y="77"/>
                </a:cubicBezTo>
                <a:cubicBezTo>
                  <a:pt x="809" y="89"/>
                  <a:pt x="1002" y="0"/>
                  <a:pt x="1052" y="89"/>
                </a:cubicBezTo>
                <a:cubicBezTo>
                  <a:pt x="1102" y="178"/>
                  <a:pt x="1064" y="531"/>
                  <a:pt x="980" y="614"/>
                </a:cubicBezTo>
                <a:cubicBezTo>
                  <a:pt x="896" y="697"/>
                  <a:pt x="696" y="593"/>
                  <a:pt x="546" y="590"/>
                </a:cubicBezTo>
                <a:cubicBezTo>
                  <a:pt x="396" y="587"/>
                  <a:pt x="156" y="667"/>
                  <a:pt x="78" y="594"/>
                </a:cubicBezTo>
                <a:cubicBezTo>
                  <a:pt x="0" y="521"/>
                  <a:pt x="46" y="258"/>
                  <a:pt x="78" y="152"/>
                </a:cubicBezTo>
                <a:close/>
              </a:path>
            </a:pathLst>
          </a:custGeom>
          <a:solidFill>
            <a:srgbClr val="ccffcc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5797440" y="398628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Ri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SimSun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153120" y="4435560"/>
            <a:ext cx="384120" cy="272880"/>
          </a:xfrm>
          <a:custGeom>
            <a:avLst/>
            <a:gdLst/>
            <a:ahLst/>
            <a:rect l="l" t="t" r="r" b="b"/>
            <a:pathLst>
              <a:path w="242" h="172">
                <a:moveTo>
                  <a:pt x="242" y="172"/>
                </a:moveTo>
                <a:cubicBezTo>
                  <a:pt x="164" y="143"/>
                  <a:pt x="87" y="115"/>
                  <a:pt x="47" y="86"/>
                </a:cubicBezTo>
                <a:cubicBezTo>
                  <a:pt x="7" y="57"/>
                  <a:pt x="3" y="28"/>
                  <a:pt x="0" y="0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11360" y="5437080"/>
            <a:ext cx="863640" cy="333360"/>
          </a:xfrm>
          <a:custGeom>
            <a:avLst/>
            <a:gdLst/>
            <a:ahLst/>
            <a:rect l="l" t="t" r="r" b="b"/>
            <a:pathLst>
              <a:path w="552" h="226">
                <a:moveTo>
                  <a:pt x="0" y="0"/>
                </a:moveTo>
                <a:cubicBezTo>
                  <a:pt x="62" y="67"/>
                  <a:pt x="125" y="134"/>
                  <a:pt x="217" y="172"/>
                </a:cubicBezTo>
                <a:cubicBezTo>
                  <a:pt x="309" y="210"/>
                  <a:pt x="430" y="218"/>
                  <a:pt x="552" y="22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251320" y="5807160"/>
            <a:ext cx="1247760" cy="334800"/>
          </a:xfrm>
          <a:custGeom>
            <a:avLst/>
            <a:gdLst/>
            <a:ahLst/>
            <a:rect l="l" t="t" r="r" b="b"/>
            <a:pathLst>
              <a:path w="786" h="211">
                <a:moveTo>
                  <a:pt x="0" y="0"/>
                </a:moveTo>
                <a:cubicBezTo>
                  <a:pt x="195" y="6"/>
                  <a:pt x="391" y="12"/>
                  <a:pt x="522" y="47"/>
                </a:cubicBezTo>
                <a:cubicBezTo>
                  <a:pt x="653" y="82"/>
                  <a:pt x="719" y="146"/>
                  <a:pt x="786" y="211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1676-18BE-48E9-A311-14EC0F8CB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2362320" y="1523520"/>
            <a:ext cx="579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velopment-World model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i="1" lang="en-US" sz="2000" spc="-1" strike="noStrike">
                <a:solidFill>
                  <a:srgbClr val="ffff00"/>
                </a:solidFill>
                <a:latin typeface="Tahoma"/>
              </a:rPr>
              <a:t>refers to and reasons about…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"/>
          <p:cNvSpPr/>
          <p:nvPr/>
        </p:nvSpPr>
        <p:spPr>
          <a:xfrm>
            <a:off x="457200" y="4191120"/>
            <a:ext cx="2590920" cy="1904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295280" y="762120"/>
            <a:ext cx="4343400" cy="243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019920" y="3809880"/>
            <a:ext cx="2590560" cy="190512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809880" y="3733920"/>
            <a:ext cx="2590920" cy="190476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133720" y="3886200"/>
            <a:ext cx="2590560" cy="190512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419720" y="5715000"/>
            <a:ext cx="4724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erational-World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3428640" y="5035680"/>
            <a:ext cx="1143000" cy="43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lt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"/>
          <p:cNvSpPr/>
          <p:nvPr/>
        </p:nvSpPr>
        <p:spPr>
          <a:xfrm>
            <a:off x="4952880" y="5105520"/>
            <a:ext cx="1143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t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629400" y="52578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-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57200" y="5486400"/>
            <a:ext cx="1143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-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990720" y="2895480"/>
            <a:ext cx="685800" cy="16002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432" y="0"/>
                </a:moveTo>
                <a:cubicBezTo>
                  <a:pt x="324" y="132"/>
                  <a:pt x="216" y="264"/>
                  <a:pt x="144" y="432"/>
                </a:cubicBezTo>
                <a:cubicBezTo>
                  <a:pt x="72" y="600"/>
                  <a:pt x="36" y="804"/>
                  <a:pt x="0" y="10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3199680" y="2895480"/>
            <a:ext cx="609480" cy="160020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432" y="0"/>
                </a:moveTo>
                <a:cubicBezTo>
                  <a:pt x="324" y="132"/>
                  <a:pt x="216" y="264"/>
                  <a:pt x="144" y="432"/>
                </a:cubicBezTo>
                <a:cubicBezTo>
                  <a:pt x="72" y="600"/>
                  <a:pt x="36" y="804"/>
                  <a:pt x="0" y="10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H="1">
            <a:off x="4267080" y="2895480"/>
            <a:ext cx="1447920" cy="144792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432" y="0"/>
                </a:moveTo>
                <a:cubicBezTo>
                  <a:pt x="324" y="132"/>
                  <a:pt x="216" y="264"/>
                  <a:pt x="144" y="432"/>
                </a:cubicBezTo>
                <a:cubicBezTo>
                  <a:pt x="72" y="600"/>
                  <a:pt x="36" y="804"/>
                  <a:pt x="0" y="10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4799880" y="2743200"/>
            <a:ext cx="2895480" cy="1447920"/>
          </a:xfrm>
          <a:custGeom>
            <a:avLst/>
            <a:gdLst/>
            <a:ahLst/>
            <a:rect l="l" t="t" r="r" b="b"/>
            <a:pathLst>
              <a:path w="432" h="1008">
                <a:moveTo>
                  <a:pt x="432" y="0"/>
                </a:moveTo>
                <a:cubicBezTo>
                  <a:pt x="324" y="132"/>
                  <a:pt x="216" y="264"/>
                  <a:pt x="144" y="432"/>
                </a:cubicBezTo>
                <a:cubicBezTo>
                  <a:pt x="72" y="600"/>
                  <a:pt x="36" y="804"/>
                  <a:pt x="0" y="100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655080" y="990720"/>
            <a:ext cx="476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rte"/>
              </a:rPr>
              <a:t>Strategic Rational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538720" y="6172200"/>
            <a:ext cx="543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orte"/>
              </a:rPr>
              <a:t>Strategic Dependency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Goal-Oriented and Agent-Oriented Requirements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CA" sz="4000" spc="-1" strike="noStrike">
                <a:solidFill>
                  <a:srgbClr val="000000"/>
                </a:solidFill>
                <a:latin typeface="Script MT Bold"/>
              </a:rPr>
              <a:t>i*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 mode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modelling for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trategic business mode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s, </a:t>
            </a:r>
            <a:r>
              <a:rPr b="0" i="1" lang="en-CA" sz="4000" spc="-1" strike="noStrike">
                <a:solidFill>
                  <a:srgbClr val="000000"/>
                </a:solidFill>
                <a:latin typeface="Script MT Bold"/>
              </a:rPr>
              <a:t>i*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k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F683-3EDB-45EA-BA05-EB94D16E60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3152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alysis and Design Suppor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portunities and vulnerab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, workability, viability, believ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urance, assurance, enforceabilit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 and loop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sup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ising iss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oring alternati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ng, making tradeoff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ustifying, sett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d on qualitative reasoning </a:t>
            </a:r>
            <a:br>
              <a:rPr sz="2000"/>
            </a:b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2" name="" descr=""/>
          <p:cNvPicPr/>
          <p:nvPr/>
        </p:nvPicPr>
        <p:blipFill>
          <a:blip r:embed="rId1"/>
          <a:srcRect l="14664" t="6408" r="18904" b="25645"/>
          <a:stretch/>
        </p:blipFill>
        <p:spPr>
          <a:xfrm>
            <a:off x="5638680" y="1066680"/>
            <a:ext cx="3733920" cy="210528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2"/>
          <a:stretch/>
        </p:blipFill>
        <p:spPr>
          <a:xfrm>
            <a:off x="4876920" y="4014720"/>
            <a:ext cx="4572000" cy="284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1A3-AA92-4E9B-A822-9878407EFC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alysis/Evaluation of </a:t>
            </a:r>
            <a:r>
              <a:rPr b="0" i="1" lang="en-CA" sz="4400" spc="-1" strike="noStrike">
                <a:solidFill>
                  <a:srgbClr val="333399"/>
                </a:solidFill>
                <a:latin typeface="Script MT Bold"/>
              </a:rPr>
              <a:t>i*</a:t>
            </a:r>
            <a:r>
              <a:rPr b="0" lang="en-CA" sz="3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odels  </a:t>
            </a:r>
            <a:r>
              <a:rPr b="0" lang="en-US" sz="1800" spc="-1" strike="noStrike">
                <a:solidFill>
                  <a:srgbClr val="1c1c1c"/>
                </a:solidFill>
                <a:latin typeface="Tahoma"/>
              </a:rPr>
              <a:t>[Jennifer Horkoff]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2195280"/>
            <a:ext cx="8229600" cy="43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what extent are stakeholder goals satisfied or denied, given a particular situation or design op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285840" y="4616280"/>
            <a:ext cx="8683200" cy="744480"/>
            <a:chOff x="285840" y="4616280"/>
            <a:chExt cx="8683200" cy="744480"/>
          </a:xfrm>
        </p:grpSpPr>
        <p:pic>
          <p:nvPicPr>
            <p:cNvPr id="928" name="" descr=""/>
            <p:cNvPicPr/>
            <p:nvPr/>
          </p:nvPicPr>
          <p:blipFill>
            <a:blip r:embed="rId1"/>
            <a:stretch/>
          </p:blipFill>
          <p:spPr>
            <a:xfrm>
              <a:off x="3312360" y="4619160"/>
              <a:ext cx="377640" cy="41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9" name="" descr=""/>
            <p:cNvPicPr/>
            <p:nvPr/>
          </p:nvPicPr>
          <p:blipFill>
            <a:blip r:embed="rId2"/>
            <a:stretch/>
          </p:blipFill>
          <p:spPr>
            <a:xfrm>
              <a:off x="6135480" y="4617720"/>
              <a:ext cx="494640" cy="40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0" name="" descr=""/>
            <p:cNvPicPr/>
            <p:nvPr/>
          </p:nvPicPr>
          <p:blipFill>
            <a:blip r:embed="rId3"/>
            <a:stretch/>
          </p:blipFill>
          <p:spPr>
            <a:xfrm>
              <a:off x="3947400" y="4622400"/>
              <a:ext cx="384120" cy="43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1" name="" descr=""/>
            <p:cNvPicPr/>
            <p:nvPr/>
          </p:nvPicPr>
          <p:blipFill>
            <a:blip r:embed="rId4"/>
            <a:stretch/>
          </p:blipFill>
          <p:spPr>
            <a:xfrm>
              <a:off x="4723920" y="4616280"/>
              <a:ext cx="413640" cy="39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" descr=""/>
            <p:cNvPicPr/>
            <p:nvPr/>
          </p:nvPicPr>
          <p:blipFill>
            <a:blip r:embed="rId5"/>
            <a:stretch/>
          </p:blipFill>
          <p:spPr>
            <a:xfrm>
              <a:off x="5500440" y="4627440"/>
              <a:ext cx="377640" cy="4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3" name="" descr=""/>
            <p:cNvPicPr/>
            <p:nvPr/>
          </p:nvPicPr>
          <p:blipFill>
            <a:blip r:embed="rId6"/>
            <a:stretch/>
          </p:blipFill>
          <p:spPr>
            <a:xfrm>
              <a:off x="2968560" y="5091480"/>
              <a:ext cx="3811320" cy="26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 txBox="1"/>
            <p:nvPr/>
          </p:nvSpPr>
          <p:spPr>
            <a:xfrm>
              <a:off x="285840" y="4691160"/>
              <a:ext cx="2612880" cy="59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255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Full Satisfaction</a:t>
              </a:r>
              <a:endParaRPr b="0" lang="en-US" sz="24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35" name=""/>
            <p:cNvSpPr txBox="1"/>
            <p:nvPr/>
          </p:nvSpPr>
          <p:spPr>
            <a:xfrm>
              <a:off x="6993000" y="4691160"/>
              <a:ext cx="1976040" cy="595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Full Denial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7A1E-27C3-434E-B9D6-0449553545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6" name=""/>
          <p:cNvGraphicFramePr/>
          <p:nvPr/>
        </p:nvGraphicFramePr>
        <p:xfrm>
          <a:off x="3997440" y="3003480"/>
          <a:ext cx="38876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7440" y="3003480"/>
                    <a:ext cx="38876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324000" y="184320"/>
            <a:ext cx="822960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2153880"/>
            <a:ext cx="340056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based on an analysis questio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the Application implements </a:t>
            </a:r>
            <a:r>
              <a:rPr b="0" lang="en-US" sz="2000" spc="-1" strike="noStrike">
                <a:solidFill>
                  <a:srgbClr val="cc9900"/>
                </a:solidFill>
                <a:latin typeface="Tahoma"/>
              </a:rPr>
              <a:t>Restrict Structure of Passwor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but not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sk for Secret Ques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hat effect will this have on </a:t>
            </a:r>
            <a:r>
              <a:rPr b="0" lang="en-US" sz="2000" spc="-1" strike="noStrike">
                <a:solidFill>
                  <a:srgbClr val="ff00ff"/>
                </a:solidFill>
                <a:latin typeface="Tahoma"/>
              </a:rPr>
              <a:t>Attract Us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Initial Labels reflecting Analysis Qu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40" name=""/>
          <p:cNvGraphicFramePr/>
          <p:nvPr/>
        </p:nvGraphicFramePr>
        <p:xfrm>
          <a:off x="7164360" y="5722920"/>
          <a:ext cx="576360" cy="4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64360" y="5722920"/>
                    <a:ext cx="5763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00720" y="5589720"/>
            <a:ext cx="936720" cy="647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716360" y="5516640"/>
            <a:ext cx="1081080" cy="865080"/>
          </a:xfrm>
          <a:prstGeom prst="ellips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580000" y="3213000"/>
            <a:ext cx="863640" cy="72072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6" name=""/>
          <p:cNvGraphicFramePr/>
          <p:nvPr/>
        </p:nvGraphicFramePr>
        <p:xfrm>
          <a:off x="5738760" y="5661000"/>
          <a:ext cx="486000" cy="5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8760" y="5661000"/>
                    <a:ext cx="4860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44AF-EE91-4F79-9D8B-63BE08EBB5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8" name=""/>
          <p:cNvGraphicFramePr/>
          <p:nvPr/>
        </p:nvGraphicFramePr>
        <p:xfrm>
          <a:off x="3997440" y="3003480"/>
          <a:ext cx="3887640" cy="373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7440" y="3003480"/>
                    <a:ext cx="3887640" cy="37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0" name=""/>
          <p:cNvSpPr/>
          <p:nvPr/>
        </p:nvSpPr>
        <p:spPr>
          <a:xfrm>
            <a:off x="466560" y="3024360"/>
            <a:ext cx="2953080" cy="327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Inter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ttract Us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eives the following Labe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denied from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satisfied from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Label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partially den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xample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2728800" y="544320"/>
            <a:ext cx="6120000" cy="16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pagate lab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lve lab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rate on the above steps until all labels have been propag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0" y="22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9" name=""/>
          <p:cNvGraphicFramePr/>
          <p:nvPr/>
        </p:nvGraphicFramePr>
        <p:xfrm>
          <a:off x="7091280" y="5722920"/>
          <a:ext cx="576360" cy="44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1280" y="5722920"/>
                    <a:ext cx="57636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1" name=""/>
          <p:cNvGraphicFramePr/>
          <p:nvPr/>
        </p:nvGraphicFramePr>
        <p:xfrm>
          <a:off x="5665680" y="5661000"/>
          <a:ext cx="486000" cy="50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65680" y="5661000"/>
                    <a:ext cx="48600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3" name=""/>
          <p:cNvGraphicFramePr/>
          <p:nvPr/>
        </p:nvGraphicFramePr>
        <p:xfrm>
          <a:off x="4932360" y="4437000"/>
          <a:ext cx="460440" cy="463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932360" y="4437000"/>
                    <a:ext cx="46044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5" name=""/>
          <p:cNvGraphicFramePr/>
          <p:nvPr/>
        </p:nvGraphicFramePr>
        <p:xfrm>
          <a:off x="7524720" y="4432320"/>
          <a:ext cx="503280" cy="412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24720" y="4432320"/>
                    <a:ext cx="503280" cy="41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"/>
          <p:cNvSpPr/>
          <p:nvPr/>
        </p:nvSpPr>
        <p:spPr>
          <a:xfrm>
            <a:off x="539640" y="2997360"/>
            <a:ext cx="2952720" cy="327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Inter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s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eives the following Labe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denied from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estrict Structure of Passw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denied from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sk for Secret Qu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Label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den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6299280" y="3284640"/>
          <a:ext cx="409320" cy="455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99280" y="3284640"/>
                    <a:ext cx="40932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0" name=""/>
          <p:cNvGraphicFramePr/>
          <p:nvPr/>
        </p:nvGraphicFramePr>
        <p:xfrm>
          <a:off x="1563840" y="4680000"/>
          <a:ext cx="344160" cy="3826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63840" y="4680000"/>
                    <a:ext cx="344160" cy="3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2" name=""/>
          <p:cNvGraphicFramePr/>
          <p:nvPr/>
        </p:nvGraphicFramePr>
        <p:xfrm>
          <a:off x="2427120" y="5376960"/>
          <a:ext cx="344520" cy="382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7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427120" y="5376960"/>
                    <a:ext cx="344520" cy="38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4" name=""/>
          <p:cNvGraphicFramePr/>
          <p:nvPr/>
        </p:nvGraphicFramePr>
        <p:xfrm>
          <a:off x="1403280" y="4440240"/>
          <a:ext cx="344520" cy="384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7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403280" y="4440240"/>
                    <a:ext cx="344520" cy="3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6" name=""/>
          <p:cNvGraphicFramePr/>
          <p:nvPr/>
        </p:nvGraphicFramePr>
        <p:xfrm>
          <a:off x="1403280" y="5151600"/>
          <a:ext cx="317520" cy="320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97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403280" y="5151600"/>
                    <a:ext cx="317520" cy="32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8" name=""/>
          <p:cNvSpPr/>
          <p:nvPr/>
        </p:nvSpPr>
        <p:spPr>
          <a:xfrm>
            <a:off x="6877080" y="4365720"/>
            <a:ext cx="1008000" cy="5760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508720" y="3284640"/>
            <a:ext cx="1008000" cy="57600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FB1C-954F-40AE-B68D-03BCC7A5508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981080" y="1600200"/>
            <a:ext cx="6632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From Business Models to Service-Oriented Design:</a:t>
            </a:r>
            <a:br>
              <a:rPr sz="4200"/>
            </a:b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a Reference Catalog Approach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subTitle"/>
          </p:nvPr>
        </p:nvSpPr>
        <p:spPr>
          <a:xfrm>
            <a:off x="2057040" y="3962160"/>
            <a:ext cx="3352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y 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artment of Computer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y of Toro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5562720" y="3962520"/>
            <a:ext cx="30477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c Y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ulty of Information Stud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versity of Toro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3" name="" descr=""/>
          <p:cNvPicPr/>
          <p:nvPr/>
        </p:nvPicPr>
        <p:blipFill>
          <a:blip r:embed="rId1"/>
          <a:stretch/>
        </p:blipFill>
        <p:spPr>
          <a:xfrm>
            <a:off x="958680" y="1447920"/>
            <a:ext cx="793800" cy="1218960"/>
          </a:xfrm>
          <a:prstGeom prst="rect">
            <a:avLst/>
          </a:prstGeom>
          <a:ln w="0">
            <a:noFill/>
          </a:ln>
        </p:spPr>
      </p:pic>
      <p:sp>
        <p:nvSpPr>
          <p:cNvPr id="984" name=""/>
          <p:cNvSpPr/>
          <p:nvPr/>
        </p:nvSpPr>
        <p:spPr>
          <a:xfrm>
            <a:off x="506160" y="5713560"/>
            <a:ext cx="6552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mic Sans MS"/>
              </a:rPr>
              <a:t>Lo, A. and Yu, E., "From Business Models to Service-Oriented Design: A Reference Catalog Approach", ER 2007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mic Sans MS"/>
              </a:rPr>
              <a:t>Int. Conf. on Conceptual Modeling, LNCS 4801, Springer, 87-101, 200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mic Sans MS"/>
              </a:rPr>
              <a:t>Lo, A., "From Business Models to Service-Oriented Design: A Reference Catalog Approach"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Comic Sans MS"/>
              </a:rPr>
              <a:t>M.Sc. thesis, Dept. of Comp. Sci., Univ. of Toronto, 2006.</a:t>
            </a:r>
            <a:r>
              <a:rPr b="0" lang="en-CA" sz="1000" spc="-1" strike="noStrike">
                <a:solidFill>
                  <a:srgbClr val="6666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Services at the Business level……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986" name="" descr=""/>
          <p:cNvPicPr/>
          <p:nvPr/>
        </p:nvPicPr>
        <p:blipFill>
          <a:blip r:embed="rId1"/>
          <a:stretch/>
        </p:blipFill>
        <p:spPr>
          <a:xfrm>
            <a:off x="565200" y="1371600"/>
            <a:ext cx="1552680" cy="1876320"/>
          </a:xfrm>
          <a:prstGeom prst="rect">
            <a:avLst/>
          </a:prstGeom>
          <a:ln w="0">
            <a:noFill/>
          </a:ln>
        </p:spPr>
      </p:pic>
      <p:pic>
        <p:nvPicPr>
          <p:cNvPr id="987" name="MMj02836860000[1]" descr=""/>
          <p:cNvPicPr/>
          <p:nvPr/>
        </p:nvPicPr>
        <p:blipFill>
          <a:blip r:embed="rId2"/>
          <a:stretch/>
        </p:blipFill>
        <p:spPr>
          <a:xfrm>
            <a:off x="5486400" y="16002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988" name="" descr=""/>
          <p:cNvPicPr/>
          <p:nvPr/>
        </p:nvPicPr>
        <p:blipFill>
          <a:blip r:embed="rId3"/>
          <a:stretch/>
        </p:blipFill>
        <p:spPr>
          <a:xfrm>
            <a:off x="6629400" y="1143000"/>
            <a:ext cx="1833480" cy="1081080"/>
          </a:xfrm>
          <a:prstGeom prst="rect">
            <a:avLst/>
          </a:prstGeom>
          <a:ln w="0">
            <a:noFill/>
          </a:ln>
        </p:spPr>
      </p:pic>
      <p:pic>
        <p:nvPicPr>
          <p:cNvPr id="989" name="" descr=""/>
          <p:cNvPicPr/>
          <p:nvPr/>
        </p:nvPicPr>
        <p:blipFill>
          <a:blip r:embed="rId4"/>
          <a:stretch/>
        </p:blipFill>
        <p:spPr>
          <a:xfrm>
            <a:off x="6873840" y="4114800"/>
            <a:ext cx="1812960" cy="1114560"/>
          </a:xfrm>
          <a:prstGeom prst="rect">
            <a:avLst/>
          </a:prstGeom>
          <a:ln w="0">
            <a:noFill/>
          </a:ln>
        </p:spPr>
      </p:pic>
      <p:pic>
        <p:nvPicPr>
          <p:cNvPr id="990" name="" descr=""/>
          <p:cNvPicPr/>
          <p:nvPr/>
        </p:nvPicPr>
        <p:blipFill>
          <a:blip r:embed="rId5"/>
          <a:stretch/>
        </p:blipFill>
        <p:spPr>
          <a:xfrm>
            <a:off x="3200400" y="1066680"/>
            <a:ext cx="1428840" cy="1225800"/>
          </a:xfrm>
          <a:prstGeom prst="rect">
            <a:avLst/>
          </a:prstGeom>
          <a:ln w="0">
            <a:noFill/>
          </a:ln>
        </p:spPr>
      </p:pic>
      <p:pic>
        <p:nvPicPr>
          <p:cNvPr id="991" name="MMj02841620000[1]" descr=""/>
          <p:cNvPicPr/>
          <p:nvPr/>
        </p:nvPicPr>
        <p:blipFill>
          <a:blip r:embed="rId6"/>
          <a:stretch/>
        </p:blipFill>
        <p:spPr>
          <a:xfrm>
            <a:off x="3219480" y="4610160"/>
            <a:ext cx="819000" cy="952560"/>
          </a:xfrm>
          <a:prstGeom prst="rect">
            <a:avLst/>
          </a:prstGeom>
          <a:ln w="0">
            <a:noFill/>
          </a:ln>
        </p:spPr>
      </p:pic>
      <p:pic>
        <p:nvPicPr>
          <p:cNvPr id="992" name="" descr=""/>
          <p:cNvPicPr/>
          <p:nvPr/>
        </p:nvPicPr>
        <p:blipFill>
          <a:blip r:embed="rId7"/>
          <a:stretch/>
        </p:blipFill>
        <p:spPr>
          <a:xfrm>
            <a:off x="1066680" y="4114800"/>
            <a:ext cx="1581120" cy="1647720"/>
          </a:xfrm>
          <a:prstGeom prst="rect">
            <a:avLst/>
          </a:prstGeom>
          <a:ln w="0">
            <a:noFill/>
          </a:ln>
        </p:spPr>
      </p:pic>
      <p:sp>
        <p:nvSpPr>
          <p:cNvPr id="993" name=""/>
          <p:cNvSpPr/>
          <p:nvPr/>
        </p:nvSpPr>
        <p:spPr>
          <a:xfrm>
            <a:off x="231120" y="304812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975240" y="5729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Sh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431880" y="2286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a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861240" y="198108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134120" y="51814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lesa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813840" y="3824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port Consolid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9" name="" descr=""/>
          <p:cNvPicPr/>
          <p:nvPr/>
        </p:nvPicPr>
        <p:blipFill>
          <a:blip r:embed="rId8"/>
          <a:stretch/>
        </p:blipFill>
        <p:spPr>
          <a:xfrm>
            <a:off x="4343400" y="2743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1000" name="" descr=""/>
          <p:cNvPicPr/>
          <p:nvPr/>
        </p:nvPicPr>
        <p:blipFill>
          <a:blip r:embed="rId9"/>
          <a:stretch/>
        </p:blipFill>
        <p:spPr>
          <a:xfrm>
            <a:off x="2286000" y="21337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001" name=""/>
          <p:cNvSpPr/>
          <p:nvPr/>
        </p:nvSpPr>
        <p:spPr>
          <a:xfrm flipV="1">
            <a:off x="2209680" y="1904760"/>
            <a:ext cx="9907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2" name="" descr=""/>
          <p:cNvPicPr/>
          <p:nvPr/>
        </p:nvPicPr>
        <p:blipFill>
          <a:blip r:embed="rId10"/>
          <a:stretch/>
        </p:blipFill>
        <p:spPr>
          <a:xfrm>
            <a:off x="4724280" y="4572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003" name=""/>
          <p:cNvSpPr/>
          <p:nvPr/>
        </p:nvSpPr>
        <p:spPr>
          <a:xfrm>
            <a:off x="4492080" y="541008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7620120" y="23619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5" name="" descr=""/>
          <p:cNvPicPr/>
          <p:nvPr/>
        </p:nvPicPr>
        <p:blipFill>
          <a:blip r:embed="rId11"/>
          <a:stretch/>
        </p:blipFill>
        <p:spPr>
          <a:xfrm>
            <a:off x="6781680" y="2971800"/>
            <a:ext cx="709560" cy="876240"/>
          </a:xfrm>
          <a:prstGeom prst="rect">
            <a:avLst/>
          </a:prstGeom>
          <a:ln w="0">
            <a:noFill/>
          </a:ln>
        </p:spPr>
      </p:pic>
      <p:sp>
        <p:nvSpPr>
          <p:cNvPr id="1006" name=""/>
          <p:cNvSpPr/>
          <p:nvPr/>
        </p:nvSpPr>
        <p:spPr>
          <a:xfrm>
            <a:off x="2806560" y="5573880"/>
            <a:ext cx="160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Online Shopp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hipping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216160" y="1512720"/>
            <a:ext cx="948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Custom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564160" y="3124080"/>
            <a:ext cx="988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Transpor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648680" y="1143000"/>
            <a:ext cx="213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99"/>
                </a:solidFill>
                <a:latin typeface="Arial"/>
              </a:rPr>
              <a:t>Ordering/Delivery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5997960" y="5116680"/>
            <a:ext cx="9212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Order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Deliver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609320" y="2895480"/>
            <a:ext cx="92124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Order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hipp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99"/>
                </a:solidFill>
                <a:latin typeface="Arial"/>
              </a:rPr>
              <a:t>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743200" y="55627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24280" y="1523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5562360" y="3733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H="1">
            <a:off x="5486040" y="228600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15000" y="5105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2057400" y="3809880"/>
            <a:ext cx="1600200" cy="533520"/>
          </a:xfrm>
          <a:prstGeom prst="cloudCallout">
            <a:avLst>
              <a:gd name="adj1" fmla="val -30953"/>
              <a:gd name="adj2" fmla="val 78569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1600200" y="990720"/>
            <a:ext cx="914400" cy="609480"/>
          </a:xfrm>
          <a:prstGeom prst="cloudCallout">
            <a:avLst>
              <a:gd name="adj1" fmla="val -55555"/>
              <a:gd name="adj2" fmla="val 39064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w Pri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638680" y="4191120"/>
            <a:ext cx="1219320" cy="457200"/>
          </a:xfrm>
          <a:prstGeom prst="cloudCallout">
            <a:avLst>
              <a:gd name="adj1" fmla="val -54949"/>
              <a:gd name="adj2" fmla="val 885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$Profit$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638680" y="4191120"/>
            <a:ext cx="1219320" cy="457200"/>
          </a:xfrm>
          <a:prstGeom prst="cloudCallout">
            <a:avLst>
              <a:gd name="adj1" fmla="val 60416"/>
              <a:gd name="adj2" fmla="val 6840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Profit$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867280" y="2286000"/>
            <a:ext cx="1219320" cy="685800"/>
          </a:xfrm>
          <a:prstGeom prst="cloudCallout">
            <a:avLst>
              <a:gd name="adj1" fmla="val 25388"/>
              <a:gd name="adj2" fmla="val -95833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stain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77E8B-F502-4E51-97CD-A372525EF08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Motivations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-Oriented Architecture (SO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business/IT alig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business needs properly captured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id increase of design o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 to choose among them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 archite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y? What are the motivations and rationales behind the desig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02DCC-E0B7-49C3-BEB8-19490DB1CA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3399"/>
                </a:solidFill>
                <a:latin typeface="Garamond"/>
              </a:rPr>
              <a:t>i*</a:t>
            </a:r>
            <a:r>
              <a:rPr b="0" lang="en-US" sz="4200" spc="-1" strike="noStrike">
                <a:solidFill>
                  <a:srgbClr val="003399"/>
                </a:solidFill>
                <a:latin typeface="Garamond"/>
              </a:rPr>
              <a:t> as a Business Modeling Technique</a:t>
            </a:r>
            <a:endParaRPr b="0" lang="en-US" sz="42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025" name="" descr=""/>
          <p:cNvPicPr/>
          <p:nvPr/>
        </p:nvPicPr>
        <p:blipFill>
          <a:blip r:embed="rId1"/>
          <a:stretch/>
        </p:blipFill>
        <p:spPr>
          <a:xfrm>
            <a:off x="1371600" y="1166760"/>
            <a:ext cx="6858000" cy="496584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t value cre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6341400" y="5486400"/>
            <a:ext cx="23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*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ategic Rat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R)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CCAC38-B6CB-4084-ACD2-322620B9B53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Are all stakeholders goals’ achieved? </a:t>
            </a:r>
            <a:br>
              <a:rPr sz="3800"/>
            </a:br>
            <a:r>
              <a:rPr b="0" lang="en-US" sz="2200" spc="-1" strike="noStrike">
                <a:solidFill>
                  <a:srgbClr val="003399"/>
                </a:solidFill>
                <a:latin typeface="Garamond"/>
              </a:rPr>
              <a:t>Evaluation of goal model </a:t>
            </a:r>
            <a:r>
              <a:rPr b="0" lang="en-US" sz="1600" spc="-1" strike="noStrike">
                <a:solidFill>
                  <a:srgbClr val="003399"/>
                </a:solidFill>
                <a:latin typeface="Garamond"/>
              </a:rPr>
              <a:t>[Horkoff06]</a:t>
            </a:r>
            <a:endParaRPr b="0" lang="en-US" sz="1600" spc="-1" strike="noStrike">
              <a:solidFill>
                <a:srgbClr val="003399"/>
              </a:solidFill>
              <a:latin typeface="Garamond"/>
            </a:endParaRPr>
          </a:p>
        </p:txBody>
      </p:sp>
      <p:pic>
        <p:nvPicPr>
          <p:cNvPr id="1029" name="" descr=""/>
          <p:cNvPicPr/>
          <p:nvPr/>
        </p:nvPicPr>
        <p:blipFill>
          <a:blip r:embed="rId1"/>
          <a:srcRect l="0" t="0" r="2665" b="0"/>
          <a:stretch/>
        </p:blipFill>
        <p:spPr>
          <a:xfrm>
            <a:off x="776160" y="1600200"/>
            <a:ext cx="7591680" cy="453060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539640" y="616572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R model refined from business model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4EFD7-8F65-4A2E-BB77-1A475D0CA17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3399"/>
                </a:solidFill>
                <a:latin typeface="Garamond"/>
              </a:rPr>
              <a:t>i*</a:t>
            </a:r>
            <a:r>
              <a:rPr b="0" lang="en-US" sz="3800" spc="-1" strike="noStrike">
                <a:solidFill>
                  <a:srgbClr val="003399"/>
                </a:solidFill>
                <a:latin typeface="Garamond"/>
              </a:rPr>
              <a:t>’s Analytical and Reasoning Capabilities</a:t>
            </a:r>
            <a:endParaRPr b="0" lang="en-US" sz="3800" spc="-1" strike="noStrike">
              <a:solidFill>
                <a:srgbClr val="003399"/>
              </a:solidFill>
              <a:latin typeface="Garamond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sk decom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ns-ends reaso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ernatives exploration and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asibility 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EB967-9B6E-4C32-8151-07A08F554A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We need deeper understanding than in traditional modell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82600" y="6264360"/>
            <a:ext cx="77724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rcRect l="444" t="12526" r="3478" b="7637"/>
          <a:stretch/>
        </p:blipFill>
        <p:spPr>
          <a:xfrm>
            <a:off x="677880" y="2676600"/>
            <a:ext cx="6727680" cy="347004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597480" y="2386080"/>
            <a:ext cx="42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Automobile insurance claims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3880" y="60958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4650-789C-4FD2-9273-414C3B4254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ffffff"/>
                </a:solidFill>
                <a:latin typeface="Verdana"/>
              </a:rPr>
              <a:t>Strategic Reasoning About Business Models:</a:t>
            </a:r>
            <a:br>
              <a:rPr sz="2600"/>
            </a:br>
            <a:r>
              <a:rPr b="0" lang="en-CA" sz="2600" spc="-1" strike="noStrike">
                <a:solidFill>
                  <a:srgbClr val="ffffff"/>
                </a:solidFill>
                <a:latin typeface="Verdana"/>
              </a:rPr>
              <a:t>A Conceptual Modeling Approach</a:t>
            </a: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4922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Reza Samavi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ric Y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hodoros Topaloglou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5" name=""/>
          <p:cNvSpPr/>
          <p:nvPr/>
        </p:nvSpPr>
        <p:spPr>
          <a:xfrm>
            <a:off x="301680" y="5510160"/>
            <a:ext cx="8109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Comic Sans MS"/>
              </a:rPr>
              <a:t>Samavi, R., Yu, E., and Topazoglou, T., "Strategic reasoning about business models: a conceptual modeling approach", Information Systems and E-Business Management. Springer, 2008. DOI:10.1007/s10257-008-0079-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Comic Sans MS"/>
              </a:rPr>
              <a:t>Samavi, R., Yu, E., and Topazoglou, T., "Applying Strategic Business Modeling to Understand Disruptive Innovation", Proc. Int. Conf. on E-Commerce, Innsbruck. Austria. August, 2008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ffffff"/>
                </a:solidFill>
                <a:latin typeface="Comic Sans MS"/>
              </a:rPr>
              <a:t>Samavi, R., "Strategic reasoning about business models: a conceptual modeling approach", M.Eng. Project. Dept of Mech. &amp; Ind. Eng., Univ. of Toronto, 2006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63400" y="304560"/>
            <a:ext cx="811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What is missing in this business model representation?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38" name="" descr=""/>
          <p:cNvPicPr/>
          <p:nvPr/>
        </p:nvPicPr>
        <p:blipFill>
          <a:blip r:embed="rId1"/>
          <a:srcRect l="3480" t="9375" r="13024" b="0"/>
          <a:stretch/>
        </p:blipFill>
        <p:spPr>
          <a:xfrm>
            <a:off x="628560" y="1494000"/>
            <a:ext cx="7694640" cy="513684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>
            <a:off x="6588000" y="4581360"/>
            <a:ext cx="2222640" cy="1611360"/>
          </a:xfrm>
          <a:prstGeom prst="roundRect">
            <a:avLst>
              <a:gd name="adj" fmla="val 16667"/>
            </a:avLst>
          </a:prstGeom>
          <a:solidFill>
            <a:srgbClr val="d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ther stakehol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ir go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tiv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ten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633760" y="5370480"/>
            <a:ext cx="1927080" cy="1095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83960" y="6583320"/>
            <a:ext cx="885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taken from: Weill, P. and M. R. Vitale (2001), Place to space: Migrating to eBusiness Models. Boston: Harvard Business School Pr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A92F7-43E5-46F0-AFED-BA67F8E34C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  <a:ea typeface="Times New Roman"/>
              </a:rPr>
              <a:t>Use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*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to model strategic relationship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1"/>
          <a:stretch/>
        </p:blipFill>
        <p:spPr>
          <a:xfrm>
            <a:off x="385920" y="1967040"/>
            <a:ext cx="8442000" cy="377964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/>
          <p:nvPr/>
        </p:nvSpPr>
        <p:spPr>
          <a:xfrm>
            <a:off x="1886040" y="2333520"/>
            <a:ext cx="1085760" cy="579600"/>
          </a:xfrm>
          <a:prstGeom prst="cloudCallout">
            <a:avLst>
              <a:gd name="adj1" fmla="val -56726"/>
              <a:gd name="adj2" fmla="val 110000"/>
            </a:avLst>
          </a:prstGeom>
          <a:solidFill>
            <a:srgbClr val="00b0e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 want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724200" y="2049480"/>
            <a:ext cx="974880" cy="609480"/>
          </a:xfrm>
          <a:prstGeom prst="cloudCallout">
            <a:avLst>
              <a:gd name="adj1" fmla="val 95601"/>
              <a:gd name="adj2" fmla="val 86458"/>
            </a:avLst>
          </a:prstGeom>
          <a:solidFill>
            <a:srgbClr val="00b0e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 can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55920" y="3352680"/>
            <a:ext cx="916200" cy="811440"/>
          </a:xfrm>
          <a:prstGeom prst="ellipse">
            <a:avLst/>
          </a:prstGeom>
          <a:solidFill>
            <a:srgbClr val="ff00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90c9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511440" y="4813200"/>
            <a:ext cx="1057320" cy="873360"/>
          </a:xfrm>
          <a:prstGeom prst="ellipse">
            <a:avLst/>
          </a:prstGeom>
          <a:solidFill>
            <a:srgbClr val="33cccc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90c9"/>
                </a:solidFill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603520" y="3795840"/>
            <a:ext cx="1036440" cy="923760"/>
          </a:xfrm>
          <a:prstGeom prst="ellipse">
            <a:avLst/>
          </a:prstGeom>
          <a:solidFill>
            <a:srgbClr val="99cc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90c9"/>
                </a:solidFill>
                <a:latin typeface="Times New Roman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7458120" y="4167360"/>
            <a:ext cx="1006560" cy="923760"/>
          </a:xfrm>
          <a:prstGeom prst="ellipse">
            <a:avLst/>
          </a:prstGeom>
          <a:solidFill>
            <a:srgbClr val="ff9900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90c9"/>
                </a:solidFill>
                <a:latin typeface="Times New Roman"/>
              </a:rPr>
              <a:t>Soft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2502000" y="5121000"/>
            <a:ext cx="183960" cy="509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 flipV="1">
            <a:off x="2692440" y="3971880"/>
            <a:ext cx="1703520" cy="1596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6205680" y="4539960"/>
            <a:ext cx="682560" cy="1173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4799160" y="3099960"/>
            <a:ext cx="1296720" cy="1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V="1">
            <a:off x="6269040" y="4902120"/>
            <a:ext cx="760320" cy="86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989360" y="543096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Depend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575680" y="585144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Contributio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626720" y="524844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Means-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5398920" y="4546440"/>
            <a:ext cx="941400" cy="84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197160" y="291456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92717"/>
                </a:solidFill>
                <a:latin typeface="Times New Roman"/>
              </a:rPr>
              <a:t>Decom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E0E61-4955-4908-9EA6-25ECA96E6FE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0" name=""/>
          <p:cNvGrpSpPr/>
          <p:nvPr/>
        </p:nvGrpSpPr>
        <p:grpSpPr>
          <a:xfrm>
            <a:off x="971640" y="2060280"/>
            <a:ext cx="5806440" cy="4215960"/>
            <a:chOff x="971640" y="2060280"/>
            <a:chExt cx="5806440" cy="4215960"/>
          </a:xfrm>
        </p:grpSpPr>
        <p:grpSp>
          <p:nvGrpSpPr>
            <p:cNvPr id="1061" name=""/>
            <p:cNvGrpSpPr/>
            <p:nvPr/>
          </p:nvGrpSpPr>
          <p:grpSpPr>
            <a:xfrm>
              <a:off x="971640" y="4095720"/>
              <a:ext cx="5713200" cy="2180520"/>
              <a:chOff x="971640" y="4095720"/>
              <a:chExt cx="5713200" cy="2180520"/>
            </a:xfrm>
          </p:grpSpPr>
          <p:sp>
            <p:nvSpPr>
              <p:cNvPr id="1062" name=""/>
              <p:cNvSpPr/>
              <p:nvPr/>
            </p:nvSpPr>
            <p:spPr>
              <a:xfrm>
                <a:off x="1832040" y="4269960"/>
                <a:ext cx="4852800" cy="2006280"/>
              </a:xfrm>
              <a:prstGeom prst="parallelogram">
                <a:avLst>
                  <a:gd name="adj" fmla="val 60470"/>
                </a:avLst>
              </a:prstGeom>
              <a:solidFill>
                <a:srgbClr val="e5ff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864880" y="4357080"/>
                <a:ext cx="2582280" cy="18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4" name=""/>
              <p:cNvSpPr/>
              <p:nvPr/>
            </p:nvSpPr>
            <p:spPr>
              <a:xfrm>
                <a:off x="971640" y="4095720"/>
                <a:ext cx="343800" cy="2093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Operational lay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5" name=""/>
            <p:cNvGrpSpPr/>
            <p:nvPr/>
          </p:nvGrpSpPr>
          <p:grpSpPr>
            <a:xfrm>
              <a:off x="982080" y="2060280"/>
              <a:ext cx="5796000" cy="2088360"/>
              <a:chOff x="982080" y="2060280"/>
              <a:chExt cx="5796000" cy="2088360"/>
            </a:xfrm>
          </p:grpSpPr>
          <p:sp>
            <p:nvSpPr>
              <p:cNvPr id="1066" name=""/>
              <p:cNvSpPr/>
              <p:nvPr/>
            </p:nvSpPr>
            <p:spPr>
              <a:xfrm>
                <a:off x="2100600" y="2350800"/>
                <a:ext cx="4648320" cy="1569960"/>
              </a:xfrm>
              <a:prstGeom prst="parallelogram">
                <a:avLst>
                  <a:gd name="adj" fmla="val 74020"/>
                </a:avLst>
              </a:prstGeom>
              <a:gradFill rotWithShape="0">
                <a:gsLst>
                  <a:gs pos="0">
                    <a:srgbClr val="ffffe5"/>
                  </a:gs>
                  <a:gs pos="100000">
                    <a:srgbClr val="d1d1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67" name="" descr=""/>
              <p:cNvPicPr/>
              <p:nvPr/>
            </p:nvPicPr>
            <p:blipFill>
              <a:blip r:embed="rId2"/>
              <a:srcRect l="0" t="0" r="0" b="20131"/>
              <a:stretch/>
            </p:blipFill>
            <p:spPr>
              <a:xfrm rot="21474600">
                <a:off x="3230280" y="2437920"/>
                <a:ext cx="3009600" cy="12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8" name=""/>
              <p:cNvSpPr/>
              <p:nvPr/>
            </p:nvSpPr>
            <p:spPr>
              <a:xfrm>
                <a:off x="982080" y="2263320"/>
                <a:ext cx="343800" cy="18316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trategy  lay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rot="18469800">
                <a:off x="1943280" y="2761920"/>
                <a:ext cx="2024280" cy="503640"/>
              </a:xfrm>
              <a:prstGeom prst="rightArrow">
                <a:avLst>
                  <a:gd name="adj1" fmla="val 50000"/>
                  <a:gd name="adj2" fmla="val 100482"/>
                </a:avLst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ontribution/Correla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rot="7618200">
                <a:off x="4955760" y="2936520"/>
                <a:ext cx="2024640" cy="503640"/>
              </a:xfrm>
              <a:prstGeom prst="rightArrow">
                <a:avLst>
                  <a:gd name="adj1" fmla="val 50000"/>
                  <a:gd name="adj2" fmla="val 100500"/>
                </a:avLst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ecompositio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1" name=""/>
            <p:cNvSpPr/>
            <p:nvPr/>
          </p:nvSpPr>
          <p:spPr>
            <a:xfrm>
              <a:off x="2714400" y="3659400"/>
              <a:ext cx="1032840" cy="1046880"/>
            </a:xfrm>
            <a:custGeom>
              <a:avLst/>
              <a:gdLst>
                <a:gd name="textAreaLeft" fmla="*/ 0 w 1032840"/>
                <a:gd name="textAreaRight" fmla="*/ 1033200 w 1032840"/>
                <a:gd name="textAreaTop" fmla="*/ 261720 h 1046880"/>
                <a:gd name="textAreaBottom" fmla="*/ 785160 h 104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8100" y="16200"/>
                  </a:lnTo>
                  <a:lnTo>
                    <a:pt x="8100" y="18900"/>
                  </a:lnTo>
                  <a:lnTo>
                    <a:pt x="5500" y="18900"/>
                  </a:lnTo>
                  <a:lnTo>
                    <a:pt x="10800" y="21600"/>
                  </a:lnTo>
                  <a:lnTo>
                    <a:pt x="16100" y="18900"/>
                  </a:lnTo>
                  <a:lnTo>
                    <a:pt x="13500" y="18900"/>
                  </a:lnTo>
                  <a:lnTo>
                    <a:pt x="13500" y="16200"/>
                  </a:lnTo>
                  <a:lnTo>
                    <a:pt x="21600" y="16200"/>
                  </a:lnTo>
                  <a:lnTo>
                    <a:pt x="21600" y="5400"/>
                  </a:lnTo>
                  <a:lnTo>
                    <a:pt x="13500" y="5400"/>
                  </a:lnTo>
                  <a:lnTo>
                    <a:pt x="13500" y="2700"/>
                  </a:lnTo>
                  <a:lnTo>
                    <a:pt x="16100" y="2700"/>
                  </a:lnTo>
                  <a:lnTo>
                    <a:pt x="10800" y="0"/>
                  </a:lnTo>
                  <a:lnTo>
                    <a:pt x="5500" y="2700"/>
                  </a:lnTo>
                  <a:lnTo>
                    <a:pt x="8100" y="2700"/>
                  </a:lnTo>
                  <a:lnTo>
                    <a:pt x="8100" y="5400"/>
                  </a:lnTo>
                  <a:close/>
                </a:path>
              </a:pathLst>
            </a:cu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Lay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fa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trategic Business Model Ontolog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3" name=""/>
          <p:cNvSpPr/>
          <p:nvPr/>
        </p:nvSpPr>
        <p:spPr>
          <a:xfrm>
            <a:off x="6835680" y="4878360"/>
            <a:ext cx="538200" cy="5288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826320" y="2759040"/>
            <a:ext cx="1192320" cy="5288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* + NF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5F821-2578-4BC7-90F8-84D420A66A5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5" name=""/>
          <p:cNvGrpSpPr/>
          <p:nvPr/>
        </p:nvGrpSpPr>
        <p:grpSpPr>
          <a:xfrm>
            <a:off x="593640" y="5330880"/>
            <a:ext cx="8550360" cy="570600"/>
            <a:chOff x="593640" y="5330880"/>
            <a:chExt cx="8550360" cy="570600"/>
          </a:xfrm>
        </p:grpSpPr>
        <p:sp>
          <p:nvSpPr>
            <p:cNvPr id="1076" name=""/>
            <p:cNvSpPr/>
            <p:nvPr/>
          </p:nvSpPr>
          <p:spPr>
            <a:xfrm>
              <a:off x="593640" y="5495760"/>
              <a:ext cx="85345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508040" y="541980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279440" y="5495760"/>
              <a:ext cx="39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918120" y="5495760"/>
              <a:ext cx="397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i="1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18320" y="5576760"/>
              <a:ext cx="6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rot="16200000">
              <a:off x="5891040" y="530532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146720" y="541980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rot="16200000">
              <a:off x="5800320" y="5305320"/>
              <a:ext cx="31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4" name=""/>
          <p:cNvSpPr/>
          <p:nvPr/>
        </p:nvSpPr>
        <p:spPr>
          <a:xfrm>
            <a:off x="457200" y="380052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7200" y="2666880"/>
            <a:ext cx="8381880" cy="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60480" y="3778200"/>
            <a:ext cx="3009600" cy="1297080"/>
            <a:chOff x="60480" y="3778200"/>
            <a:chExt cx="3009600" cy="1297080"/>
          </a:xfrm>
        </p:grpSpPr>
        <p:sp>
          <p:nvSpPr>
            <p:cNvPr id="1087" name=""/>
            <p:cNvSpPr/>
            <p:nvPr/>
          </p:nvSpPr>
          <p:spPr>
            <a:xfrm>
              <a:off x="513720" y="3881880"/>
              <a:ext cx="2556360" cy="1193400"/>
            </a:xfrm>
            <a:prstGeom prst="parallelogram">
              <a:avLst>
                <a:gd name="adj" fmla="val 53552"/>
              </a:avLst>
            </a:prstGeom>
            <a:solidFill>
              <a:srgbClr val="e5ff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8" name="" descr=""/>
            <p:cNvPicPr/>
            <p:nvPr/>
          </p:nvPicPr>
          <p:blipFill>
            <a:blip r:embed="rId1"/>
            <a:stretch/>
          </p:blipFill>
          <p:spPr>
            <a:xfrm>
              <a:off x="1057680" y="3933720"/>
              <a:ext cx="1360080" cy="11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"/>
            <p:cNvSpPr/>
            <p:nvPr/>
          </p:nvSpPr>
          <p:spPr>
            <a:xfrm>
              <a:off x="60480" y="3778200"/>
              <a:ext cx="181080" cy="124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Operational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6600" y="2577600"/>
            <a:ext cx="3093480" cy="1220760"/>
            <a:chOff x="66600" y="2577600"/>
            <a:chExt cx="3093480" cy="1220760"/>
          </a:xfrm>
        </p:grpSpPr>
        <p:sp>
          <p:nvSpPr>
            <p:cNvPr id="1091" name=""/>
            <p:cNvSpPr/>
            <p:nvPr/>
          </p:nvSpPr>
          <p:spPr>
            <a:xfrm>
              <a:off x="655560" y="2739600"/>
              <a:ext cx="2447640" cy="933840"/>
            </a:xfrm>
            <a:prstGeom prst="parallelogram">
              <a:avLst>
                <a:gd name="adj" fmla="val 65526"/>
              </a:avLst>
            </a:prstGeom>
            <a:gradFill rotWithShape="0">
              <a:gsLst>
                <a:gs pos="0">
                  <a:srgbClr val="ffffe5"/>
                </a:gs>
                <a:gs pos="100000">
                  <a:srgbClr val="d1d1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2"/>
            <a:srcRect l="0" t="0" r="0" b="20131"/>
            <a:stretch/>
          </p:blipFill>
          <p:spPr>
            <a:xfrm rot="21474600">
              <a:off x="1250640" y="2791440"/>
              <a:ext cx="1584720" cy="76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3" name=""/>
            <p:cNvSpPr/>
            <p:nvPr/>
          </p:nvSpPr>
          <p:spPr>
            <a:xfrm>
              <a:off x="66600" y="2687760"/>
              <a:ext cx="181080" cy="10893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rategy  lay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rot="18469800">
              <a:off x="503640" y="3001320"/>
              <a:ext cx="1203840" cy="265320"/>
            </a:xfrm>
            <a:prstGeom prst="rightArrow">
              <a:avLst>
                <a:gd name="adj1" fmla="val 50000"/>
                <a:gd name="adj2" fmla="val 113433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rot="7618200">
              <a:off x="2089800" y="3105000"/>
              <a:ext cx="1204200" cy="265320"/>
            </a:xfrm>
            <a:prstGeom prst="rightArrow">
              <a:avLst>
                <a:gd name="adj1" fmla="val 50000"/>
                <a:gd name="adj2" fmla="val 113467"/>
              </a:avLst>
            </a:prstGeom>
            <a:solidFill>
              <a:srgbClr val="99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977760" y="3517920"/>
            <a:ext cx="544680" cy="623880"/>
          </a:xfrm>
          <a:custGeom>
            <a:avLst/>
            <a:gdLst>
              <a:gd name="textAreaLeft" fmla="*/ 0 w 544680"/>
              <a:gd name="textAreaRight" fmla="*/ 545040 w 544680"/>
              <a:gd name="textAreaTop" fmla="*/ 155880 h 623880"/>
              <a:gd name="textAreaBottom" fmla="*/ 468000 h 623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225960" y="3903840"/>
            <a:ext cx="2555640" cy="1193760"/>
          </a:xfrm>
          <a:prstGeom prst="parallelogram">
            <a:avLst>
              <a:gd name="adj" fmla="val 53521"/>
            </a:avLst>
          </a:prstGeom>
          <a:solidFill>
            <a:srgbClr val="e5ff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8" name="" descr=""/>
          <p:cNvPicPr/>
          <p:nvPr/>
        </p:nvPicPr>
        <p:blipFill>
          <a:blip r:embed="rId3"/>
          <a:stretch/>
        </p:blipFill>
        <p:spPr>
          <a:xfrm>
            <a:off x="3768840" y="3956040"/>
            <a:ext cx="1360440" cy="111600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3367080" y="2762280"/>
            <a:ext cx="2448000" cy="933480"/>
          </a:xfrm>
          <a:prstGeom prst="parallelogram">
            <a:avLst>
              <a:gd name="adj" fmla="val 65561"/>
            </a:avLst>
          </a:prstGeom>
          <a:gradFill rotWithShape="0">
            <a:gsLst>
              <a:gs pos="0">
                <a:srgbClr val="ffffe5"/>
              </a:gs>
              <a:gs pos="100000">
                <a:srgbClr val="d1d1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" descr=""/>
          <p:cNvPicPr/>
          <p:nvPr/>
        </p:nvPicPr>
        <p:blipFill>
          <a:blip r:embed="rId4"/>
          <a:srcRect l="0" t="0" r="0" b="20131"/>
          <a:stretch/>
        </p:blipFill>
        <p:spPr>
          <a:xfrm rot="21474600">
            <a:off x="3962520" y="2813040"/>
            <a:ext cx="1584360" cy="768240"/>
          </a:xfrm>
          <a:prstGeom prst="rect">
            <a:avLst/>
          </a:prstGeom>
          <a:ln w="0">
            <a:noFill/>
          </a:ln>
        </p:spPr>
      </p:pic>
      <p:sp>
        <p:nvSpPr>
          <p:cNvPr id="1101" name=""/>
          <p:cNvSpPr/>
          <p:nvPr/>
        </p:nvSpPr>
        <p:spPr>
          <a:xfrm rot="18469800">
            <a:off x="3214440" y="3023640"/>
            <a:ext cx="1204920" cy="264960"/>
          </a:xfrm>
          <a:prstGeom prst="rightArrow">
            <a:avLst>
              <a:gd name="adj1" fmla="val 50000"/>
              <a:gd name="adj2" fmla="val 113689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rot="7618200">
            <a:off x="4800960" y="3126240"/>
            <a:ext cx="1204920" cy="266760"/>
          </a:xfrm>
          <a:prstGeom prst="rightArrow">
            <a:avLst>
              <a:gd name="adj1" fmla="val 50000"/>
              <a:gd name="adj2" fmla="val 112922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3689280" y="3540240"/>
            <a:ext cx="544680" cy="623880"/>
          </a:xfrm>
          <a:custGeom>
            <a:avLst/>
            <a:gdLst>
              <a:gd name="textAreaLeft" fmla="*/ 0 w 544680"/>
              <a:gd name="textAreaRight" fmla="*/ 545040 w 544680"/>
              <a:gd name="textAreaTop" fmla="*/ 155880 h 623880"/>
              <a:gd name="textAreaBottom" fmla="*/ 468000 h 623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249720" y="2575080"/>
            <a:ext cx="2743200" cy="2931840"/>
          </a:xfrm>
          <a:prstGeom prst="rect">
            <a:avLst/>
          </a:prstGeom>
          <a:blipFill rotWithShape="0">
            <a:blip r:embed="rId5">
              <a:alphaModFix amt="2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29360" y="3884760"/>
            <a:ext cx="2556000" cy="1193760"/>
          </a:xfrm>
          <a:prstGeom prst="parallelogram">
            <a:avLst>
              <a:gd name="adj" fmla="val 53528"/>
            </a:avLst>
          </a:prstGeom>
          <a:solidFill>
            <a:srgbClr val="af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6" name="" descr=""/>
          <p:cNvPicPr/>
          <p:nvPr/>
        </p:nvPicPr>
        <p:blipFill>
          <a:blip r:embed="rId6"/>
          <a:stretch/>
        </p:blipFill>
        <p:spPr>
          <a:xfrm>
            <a:off x="6672240" y="3936960"/>
            <a:ext cx="1360440" cy="111600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/>
          <p:nvPr/>
        </p:nvSpPr>
        <p:spPr>
          <a:xfrm>
            <a:off x="6270480" y="2743200"/>
            <a:ext cx="2448000" cy="933480"/>
          </a:xfrm>
          <a:prstGeom prst="parallelogram">
            <a:avLst>
              <a:gd name="adj" fmla="val 65561"/>
            </a:avLst>
          </a:prstGeom>
          <a:solidFill>
            <a:srgbClr val="ffff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8" name="" descr=""/>
          <p:cNvPicPr/>
          <p:nvPr/>
        </p:nvPicPr>
        <p:blipFill>
          <a:blip r:embed="rId7"/>
          <a:srcRect l="0" t="0" r="0" b="20131"/>
          <a:stretch/>
        </p:blipFill>
        <p:spPr>
          <a:xfrm rot="21474600">
            <a:off x="6865920" y="2793960"/>
            <a:ext cx="1584360" cy="76824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/>
          <p:nvPr/>
        </p:nvSpPr>
        <p:spPr>
          <a:xfrm rot="18469800">
            <a:off x="6117840" y="3004560"/>
            <a:ext cx="1204920" cy="265320"/>
          </a:xfrm>
          <a:prstGeom prst="rightArrow">
            <a:avLst>
              <a:gd name="adj1" fmla="val 50000"/>
              <a:gd name="adj2" fmla="val 113535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rot="7618200">
            <a:off x="7704720" y="3107520"/>
            <a:ext cx="1204920" cy="266400"/>
          </a:xfrm>
          <a:prstGeom prst="rightArrow">
            <a:avLst>
              <a:gd name="adj1" fmla="val 50000"/>
              <a:gd name="adj2" fmla="val 113074"/>
            </a:avLst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6593040" y="3521160"/>
            <a:ext cx="544320" cy="623880"/>
          </a:xfrm>
          <a:custGeom>
            <a:avLst/>
            <a:gdLst>
              <a:gd name="textAreaLeft" fmla="*/ 0 w 544320"/>
              <a:gd name="textAreaRight" fmla="*/ 544680 w 544320"/>
              <a:gd name="textAreaTop" fmla="*/ 155880 h 623880"/>
              <a:gd name="textAreaBottom" fmla="*/ 468000 h 623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2627280" y="2968560"/>
            <a:ext cx="1792440" cy="155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013200" y="1679400"/>
            <a:ext cx="1066680" cy="685800"/>
          </a:xfrm>
          <a:prstGeom prst="wedgeRoundRectCallout">
            <a:avLst>
              <a:gd name="adj1" fmla="val -33333"/>
              <a:gd name="adj2" fmla="val 127777"/>
              <a:gd name="adj3" fmla="val 16667"/>
            </a:avLst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lements from old strate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5340240" y="3014640"/>
            <a:ext cx="1866960" cy="193680"/>
            <a:chOff x="5340240" y="3014640"/>
            <a:chExt cx="1866960" cy="193680"/>
          </a:xfrm>
        </p:grpSpPr>
        <p:sp>
          <p:nvSpPr>
            <p:cNvPr id="1115" name=""/>
            <p:cNvSpPr/>
            <p:nvPr/>
          </p:nvSpPr>
          <p:spPr>
            <a:xfrm>
              <a:off x="5340240" y="3014640"/>
              <a:ext cx="1866960" cy="1872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rot="16200000">
              <a:off x="6409080" y="293184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7979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rot="16200000">
              <a:off x="6335280" y="2931840"/>
              <a:ext cx="1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7979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484200" y="5975280"/>
            <a:ext cx="2236680" cy="38124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e of BM [as-is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720880" y="5975280"/>
            <a:ext cx="350532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1f1f1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Transitional states of B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149880" y="5975280"/>
            <a:ext cx="2257560" cy="381240"/>
          </a:xfrm>
          <a:prstGeom prst="rect">
            <a:avLst/>
          </a:prstGeom>
          <a:solidFill>
            <a:srgbClr val="e0e0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ate of BM [to-be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n Integrated Framework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B046B3-34E5-4957-BE56-448FAEA404B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ase Stud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Telco is a telecommunication company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rriving cellular voice services has been a technological disruptive innovation for wired voice provider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Despite the mobility of cellular phones,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quality of early wireless voice services was relatively poor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ttery life for cellular units was inadequate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hones were relatively expensiv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what circumstances caused co-option in wireless and wired technology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what other strategic moves either incumbents or new entrants could have been made in the wireless case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4" name=""/>
          <p:cNvSpPr/>
          <p:nvPr/>
        </p:nvSpPr>
        <p:spPr>
          <a:xfrm>
            <a:off x="182160" y="6583320"/>
            <a:ext cx="87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Case study from: Christensen, C. (2004), Seeing What’s Next: Using the theories of innovation to predict industry change. HBS Press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001B78-285C-4DD2-9988-E2394373681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"/>
          <p:cNvGrpSpPr/>
          <p:nvPr/>
        </p:nvGrpSpPr>
        <p:grpSpPr>
          <a:xfrm>
            <a:off x="0" y="0"/>
            <a:ext cx="5310000" cy="550800"/>
            <a:chOff x="0" y="0"/>
            <a:chExt cx="5310000" cy="550800"/>
          </a:xfrm>
        </p:grpSpPr>
        <p:sp>
          <p:nvSpPr>
            <p:cNvPr id="1126" name=""/>
            <p:cNvSpPr/>
            <p:nvPr/>
          </p:nvSpPr>
          <p:spPr>
            <a:xfrm>
              <a:off x="0" y="0"/>
              <a:ext cx="5310000" cy="550800"/>
            </a:xfrm>
            <a:prstGeom prst="roundRect">
              <a:avLst>
                <a:gd name="adj" fmla="val 5000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428000" y="3240"/>
              <a:ext cx="878400" cy="250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8280" y="299880"/>
              <a:ext cx="878400" cy="2494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9" name=""/>
          <p:cNvSpPr/>
          <p:nvPr/>
        </p:nvSpPr>
        <p:spPr>
          <a:xfrm>
            <a:off x="286920" y="0"/>
            <a:ext cx="47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9941"/>
                </a:solidFill>
                <a:latin typeface="Verdana"/>
              </a:rPr>
              <a:t>Incumbent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.as-is Busin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1" name=""/>
          <p:cNvGraphicFramePr/>
          <p:nvPr/>
        </p:nvGraphicFramePr>
        <p:xfrm>
          <a:off x="1332000" y="1238400"/>
          <a:ext cx="6243480" cy="56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238400"/>
                    <a:ext cx="6243480" cy="56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626228-F19F-4B4A-AD91-7660B993A8A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3" name=""/>
          <p:cNvGrpSpPr/>
          <p:nvPr/>
        </p:nvGrpSpPr>
        <p:grpSpPr>
          <a:xfrm>
            <a:off x="0" y="0"/>
            <a:ext cx="4913280" cy="550800"/>
            <a:chOff x="0" y="0"/>
            <a:chExt cx="4913280" cy="550800"/>
          </a:xfrm>
        </p:grpSpPr>
        <p:sp>
          <p:nvSpPr>
            <p:cNvPr id="1134" name=""/>
            <p:cNvSpPr/>
            <p:nvPr/>
          </p:nvSpPr>
          <p:spPr>
            <a:xfrm>
              <a:off x="0" y="0"/>
              <a:ext cx="4913280" cy="550800"/>
            </a:xfrm>
            <a:prstGeom prst="roundRect">
              <a:avLst>
                <a:gd name="adj" fmla="val 5000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097160" y="3240"/>
              <a:ext cx="812880" cy="250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920" y="299880"/>
              <a:ext cx="812880" cy="2494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275760" y="0"/>
            <a:ext cx="43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9941"/>
                </a:solidFill>
                <a:latin typeface="Verdana"/>
              </a:rPr>
              <a:t>Incumbent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.Signals of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9" name=""/>
          <p:cNvGraphicFramePr/>
          <p:nvPr/>
        </p:nvGraphicFramePr>
        <p:xfrm>
          <a:off x="219240" y="1235160"/>
          <a:ext cx="8902440" cy="45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240" y="1235160"/>
                    <a:ext cx="890244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1" name=""/>
          <p:cNvSpPr/>
          <p:nvPr/>
        </p:nvSpPr>
        <p:spPr>
          <a:xfrm rot="347400">
            <a:off x="1322280" y="3808440"/>
            <a:ext cx="544680" cy="58572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rot="347400">
            <a:off x="1322280" y="2610000"/>
            <a:ext cx="555840" cy="53316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rot="347400">
            <a:off x="1312920" y="4721400"/>
            <a:ext cx="557280" cy="53316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 flipV="1">
            <a:off x="1906560" y="2538000"/>
            <a:ext cx="1041480" cy="12708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V="1">
            <a:off x="1793880" y="3719520"/>
            <a:ext cx="692280" cy="15552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68320" y="5230800"/>
            <a:ext cx="1246320" cy="22212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787400" y="3186000"/>
            <a:ext cx="668520" cy="182520"/>
          </a:xfrm>
          <a:prstGeom prst="line">
            <a:avLst/>
          </a:prstGeom>
          <a:ln w="2232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492CCB-70FF-4FB3-ADDD-34F31A951B7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"/>
          <p:cNvGrpSpPr/>
          <p:nvPr/>
        </p:nvGrpSpPr>
        <p:grpSpPr>
          <a:xfrm>
            <a:off x="68400" y="12600"/>
            <a:ext cx="3968640" cy="550800"/>
            <a:chOff x="68400" y="12600"/>
            <a:chExt cx="3968640" cy="550800"/>
          </a:xfrm>
        </p:grpSpPr>
        <p:sp>
          <p:nvSpPr>
            <p:cNvPr id="1149" name=""/>
            <p:cNvSpPr/>
            <p:nvPr/>
          </p:nvSpPr>
          <p:spPr>
            <a:xfrm>
              <a:off x="68400" y="12600"/>
              <a:ext cx="3968640" cy="550800"/>
            </a:xfrm>
            <a:prstGeom prst="roundRect">
              <a:avLst>
                <a:gd name="adj" fmla="val 5000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377880" y="15840"/>
              <a:ext cx="656280" cy="250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4520" y="312480"/>
              <a:ext cx="656280" cy="2494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2" name=""/>
          <p:cNvSpPr/>
          <p:nvPr/>
        </p:nvSpPr>
        <p:spPr>
          <a:xfrm>
            <a:off x="222120" y="12600"/>
            <a:ext cx="35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9941"/>
                </a:solidFill>
                <a:latin typeface="Verdana"/>
              </a:rPr>
              <a:t>Incumbent</a:t>
            </a:r>
            <a:r>
              <a:rPr b="0" lang="en-US" sz="2400" spc="-1" strike="noStrike">
                <a:solidFill>
                  <a:srgbClr val="c5736d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rate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4" name=""/>
          <p:cNvGraphicFramePr/>
          <p:nvPr/>
        </p:nvGraphicFramePr>
        <p:xfrm>
          <a:off x="2043000" y="717480"/>
          <a:ext cx="4808520" cy="597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3000" y="717480"/>
                    <a:ext cx="4808520" cy="59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6" name=""/>
          <p:cNvSpPr/>
          <p:nvPr/>
        </p:nvSpPr>
        <p:spPr>
          <a:xfrm>
            <a:off x="0" y="72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7C7779-538E-4B7C-81DB-7A8E886FE6F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7" name=""/>
          <p:cNvGrpSpPr/>
          <p:nvPr/>
        </p:nvGrpSpPr>
        <p:grpSpPr>
          <a:xfrm>
            <a:off x="17640" y="44280"/>
            <a:ext cx="6999120" cy="550800"/>
            <a:chOff x="17640" y="44280"/>
            <a:chExt cx="6999120" cy="550800"/>
          </a:xfrm>
        </p:grpSpPr>
        <p:grpSp>
          <p:nvGrpSpPr>
            <p:cNvPr id="1158" name=""/>
            <p:cNvGrpSpPr/>
            <p:nvPr/>
          </p:nvGrpSpPr>
          <p:grpSpPr>
            <a:xfrm>
              <a:off x="17640" y="44280"/>
              <a:ext cx="5552640" cy="550800"/>
              <a:chOff x="17640" y="44280"/>
              <a:chExt cx="5552640" cy="550800"/>
            </a:xfrm>
          </p:grpSpPr>
          <p:sp>
            <p:nvSpPr>
              <p:cNvPr id="1159" name=""/>
              <p:cNvSpPr/>
              <p:nvPr/>
            </p:nvSpPr>
            <p:spPr>
              <a:xfrm>
                <a:off x="17640" y="44280"/>
                <a:ext cx="5552640" cy="550800"/>
              </a:xfrm>
              <a:prstGeom prst="roundRect">
                <a:avLst>
                  <a:gd name="adj" fmla="val 50000"/>
                </a:avLst>
              </a:prstGeom>
              <a:solidFill>
                <a:srgbClr val="33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647960" y="47520"/>
                <a:ext cx="918360" cy="25092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26280" y="344160"/>
                <a:ext cx="918360" cy="24948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2" name=""/>
            <p:cNvSpPr/>
            <p:nvPr/>
          </p:nvSpPr>
          <p:spPr>
            <a:xfrm>
              <a:off x="120600" y="96840"/>
              <a:ext cx="689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Verdana"/>
                </a:rPr>
                <a:t>Is Incumbent capable for Disruptive Innovation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3" name=""/>
          <p:cNvSpPr/>
          <p:nvPr/>
        </p:nvSpPr>
        <p:spPr>
          <a:xfrm>
            <a:off x="0" y="153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4" name=""/>
          <p:cNvGraphicFramePr/>
          <p:nvPr/>
        </p:nvGraphicFramePr>
        <p:xfrm>
          <a:off x="5286240" y="0"/>
          <a:ext cx="3857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6240" y="0"/>
                    <a:ext cx="3857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6" name="PlaceHolder 1"/>
          <p:cNvSpPr>
            <a:spLocks noGrp="1"/>
          </p:cNvSpPr>
          <p:nvPr>
            <p:ph/>
          </p:nvPr>
        </p:nvSpPr>
        <p:spPr>
          <a:xfrm>
            <a:off x="179280" y="1125360"/>
            <a:ext cx="487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Disruptive Innovation Theory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ed firms often retreat upmarket in the face of disruptive attacks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y give up their least valued customers in pursuit of higher margi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ymmetry of motivat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33ccff"/>
              </a:buClr>
              <a:buSzPct val="12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ruptive attacker develops skills and continues upmark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9C6172-F587-48F3-A2D7-9DCE11C7253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61480" y="122724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…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deeper understanding about proces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480" y="2176200"/>
            <a:ext cx="7772400" cy="31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 owner wants car to be repa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urance company wants to minimize claims pay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 owner wants fair appraisal of repai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urance agent wants to maintain good customer rel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rcRect l="444" t="12526" r="3478" b="7637"/>
          <a:stretch/>
        </p:blipFill>
        <p:spPr>
          <a:xfrm>
            <a:off x="3429000" y="4038480"/>
            <a:ext cx="5105520" cy="2633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9A20-2CC1-41D6-86A5-DC5956E7A9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7" name=""/>
          <p:cNvGraphicFramePr/>
          <p:nvPr/>
        </p:nvGraphicFramePr>
        <p:xfrm>
          <a:off x="963720" y="585720"/>
          <a:ext cx="6389640" cy="628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585720"/>
                    <a:ext cx="6389640" cy="628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69" name=""/>
          <p:cNvGrpSpPr/>
          <p:nvPr/>
        </p:nvGrpSpPr>
        <p:grpSpPr>
          <a:xfrm>
            <a:off x="206280" y="92160"/>
            <a:ext cx="4619880" cy="550800"/>
            <a:chOff x="206280" y="92160"/>
            <a:chExt cx="4619880" cy="550800"/>
          </a:xfrm>
        </p:grpSpPr>
        <p:sp>
          <p:nvSpPr>
            <p:cNvPr id="1170" name=""/>
            <p:cNvSpPr/>
            <p:nvPr/>
          </p:nvSpPr>
          <p:spPr>
            <a:xfrm>
              <a:off x="206280" y="92160"/>
              <a:ext cx="4619880" cy="550800"/>
            </a:xfrm>
            <a:prstGeom prst="roundRect">
              <a:avLst>
                <a:gd name="adj" fmla="val 50000"/>
              </a:avLst>
            </a:prstGeom>
            <a:solidFill>
              <a:srgbClr val="33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058640" y="95400"/>
              <a:ext cx="764280" cy="25092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13480" y="392040"/>
              <a:ext cx="764280" cy="24948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360360" y="92160"/>
            <a:ext cx="460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19941"/>
                </a:solidFill>
                <a:latin typeface="Verdana"/>
              </a:rPr>
              <a:t>Incumbent</a:t>
            </a:r>
            <a:r>
              <a:rPr b="0" lang="en-US" sz="2400" spc="-1" strike="noStrike">
                <a:solidFill>
                  <a:srgbClr val="c5736d"/>
                </a:solidFill>
                <a:latin typeface="Verdana"/>
              </a:rPr>
              <a:t>.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trategic 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2252520" y="3770280"/>
            <a:ext cx="685800" cy="625680"/>
          </a:xfrm>
          <a:prstGeom prst="ellipse">
            <a:avLst/>
          </a:prstGeom>
          <a:noFill/>
          <a:ln w="50760">
            <a:solidFill>
              <a:srgbClr val="f92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576760" y="4025880"/>
            <a:ext cx="754200" cy="625320"/>
          </a:xfrm>
          <a:prstGeom prst="ellipse">
            <a:avLst/>
          </a:prstGeom>
          <a:noFill/>
          <a:ln w="50760">
            <a:solidFill>
              <a:srgbClr val="f92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rot="347400">
            <a:off x="4016160" y="5297400"/>
            <a:ext cx="544320" cy="45396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rot="347400">
            <a:off x="5281200" y="3698640"/>
            <a:ext cx="461880" cy="40644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rot="347400">
            <a:off x="4146480" y="5811840"/>
            <a:ext cx="557280" cy="506520"/>
          </a:xfrm>
          <a:prstGeom prst="ellipse">
            <a:avLst/>
          </a:prstGeom>
          <a:solidFill>
            <a:srgbClr val="ff5d5d">
              <a:alpha val="27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9C9FD6-E26F-45CB-A8A3-1BDFE7A751D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1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10760" y="304560"/>
            <a:ext cx="820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How does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*</a:t>
            </a:r>
            <a:r>
              <a:rPr b="0" lang="en-US" sz="2700" spc="-1" strike="noStrike">
                <a:solidFill>
                  <a:srgbClr val="ffffff"/>
                </a:solidFill>
                <a:latin typeface="Verdana"/>
              </a:rPr>
              <a:t> modeling help?</a:t>
            </a:r>
            <a:endParaRPr b="0" lang="en-US" sz="2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To systematically analyze the business mod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Investigate multi-stakeholders role in business model </a:t>
            </a:r>
            <a:r>
              <a:rPr b="0" i="1" lang="en-US" sz="2500" spc="-1" strike="noStrike">
                <a:solidFill>
                  <a:srgbClr val="ffffff"/>
                </a:solidFill>
                <a:latin typeface="Verdana"/>
              </a:rPr>
              <a:t>(e.g. Rivals, Non-Market Players, etc.)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Bring into account intentional dimensions, motivations and goals of participants in a business model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Make a firm’s strategy explicit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ccff"/>
              </a:buClr>
              <a:buSzPct val="80000"/>
              <a:buFont typeface="Wingdings 2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Demonstrate the implication of an strategy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CF196D-9382-4E00-9EA7-93C7DD7ADF8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73200" y="522000"/>
            <a:ext cx="77738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CA" sz="5400" spc="-1" strike="noStrike">
                <a:solidFill>
                  <a:srgbClr val="000000"/>
                </a:solidFill>
                <a:latin typeface="Script MT Bold"/>
              </a:rPr>
              <a:t>i*</a:t>
            </a: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iki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stering Investigation, Collaboration, and Evaluation</a:t>
            </a:r>
            <a:br>
              <a:rPr sz="2400"/>
            </a:br>
            <a:br>
              <a:rPr sz="2400"/>
            </a:br>
            <a:r>
              <a:rPr b="1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star.rwth-aachen.de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349680" y="4859280"/>
            <a:ext cx="24699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* Wiki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ma Grau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nnifer Horkoff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minik Schmitz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r Abdulhadi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ic Y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11280" y="2986200"/>
            <a:ext cx="5594400" cy="26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ck Gu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Gu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Overview and a Comparis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 lis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is Wh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Referenc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istar.rwth-aachen.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ischool.utoronto.ca/~yu</a:t>
            </a: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Why is Early RE important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Before defining the system to be bui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omplex relationships among stakehold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what they w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.g., security, privacy, trust, profitability, market positioning, strategic alliances, intellectual property, …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How they can achieve what they w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Need systematic method, bring into RE proces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modelling and reasoning support, tools, traceability, …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Consider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-business; E-learning; E-health; E-governmen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nergy, environment, transpor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2DC-B44E-444F-BD38-8227FC276D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cc"/>
            </a:gs>
            <a:gs pos="100000">
              <a:srgbClr val="ffcc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4E89-AB94-4BF5-B786-CE5F4B006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00"/>
                </a:solidFill>
                <a:latin typeface="Tahoma"/>
              </a:rPr>
              <a:t>Modelling Strategic Actor Relationships and Rationales </a:t>
            </a:r>
            <a:br>
              <a:rPr sz="3200"/>
            </a:br>
            <a:r>
              <a:rPr b="1" lang="en-US" sz="3200" spc="-1" strike="noStrike">
                <a:solidFill>
                  <a:srgbClr val="808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808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808000"/>
                </a:solidFill>
                <a:latin typeface="Tahoma"/>
              </a:rPr>
              <a:t>	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- 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the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3300"/>
                </a:solidFill>
                <a:latin typeface="Tahoma"/>
              </a:rPr>
              <a:t>i*</a:t>
            </a:r>
            <a:r>
              <a:rPr b="1" i="1" lang="en-US" sz="3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Tahoma"/>
              </a:rPr>
              <a:t>modelling framework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81532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e goals, beliefs, abilities, commi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e semi-autonomou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freedom of action, constrained by relationships with ot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fully knowable or control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has knowledge to guide action, but only partially explic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depe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n each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goals to be achieved, tasks to be performed, resources to be furnish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066680" y="3048120"/>
            <a:ext cx="4578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Impact"/>
              </a:rPr>
              <a:t>Strategic Actor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99"/>
                </a:solidFill>
                <a:latin typeface="Tahoma"/>
              </a:rPr>
              <a:t>Approach: model social relationships for analysis and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71040" y="2386080"/>
            <a:ext cx="811692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Strategic 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What do I wa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How can I achieve what I wa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ahoma"/>
              </a:rPr>
              <a:t>Who do I depend on to achieve what I wan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C01C-C395-40A5-8B2A-DC6DABE02F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4A9E-1E0A-460C-A6D7-9BD0489CC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 Eric Yu 2005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trategic Dependency Relationship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3962520"/>
            <a:ext cx="1828800" cy="1828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to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057400" y="2133720"/>
            <a:ext cx="1981080" cy="1295280"/>
          </a:xfrm>
          <a:prstGeom prst="cloudCallout">
            <a:avLst>
              <a:gd name="adj1" fmla="val -55287"/>
              <a:gd name="adj2" fmla="val 11115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 wan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5486400" y="2209680"/>
            <a:ext cx="3200400" cy="3505320"/>
            <a:chOff x="5486400" y="2209680"/>
            <a:chExt cx="3200400" cy="3505320"/>
          </a:xfrm>
        </p:grpSpPr>
        <p:sp>
          <p:nvSpPr>
            <p:cNvPr id="510" name=""/>
            <p:cNvSpPr/>
            <p:nvPr/>
          </p:nvSpPr>
          <p:spPr>
            <a:xfrm>
              <a:off x="6858000" y="3886200"/>
              <a:ext cx="182880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Actor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486400" y="2209680"/>
              <a:ext cx="1981080" cy="1295640"/>
            </a:xfrm>
            <a:prstGeom prst="cloudCallout">
              <a:avLst>
                <a:gd name="adj1" fmla="val 54486"/>
                <a:gd name="adj2" fmla="val 9987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I ca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2438280" y="4191120"/>
            <a:ext cx="4419360" cy="914400"/>
            <a:chOff x="2438280" y="4191120"/>
            <a:chExt cx="4419360" cy="914400"/>
          </a:xfrm>
        </p:grpSpPr>
        <p:sp>
          <p:nvSpPr>
            <p:cNvPr id="513" name=""/>
            <p:cNvSpPr/>
            <p:nvPr/>
          </p:nvSpPr>
          <p:spPr>
            <a:xfrm>
              <a:off x="4648320" y="4191120"/>
              <a:ext cx="1066680" cy="914400"/>
            </a:xfrm>
            <a:prstGeom prst="flowChartDelay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3581280" y="4191120"/>
              <a:ext cx="1067040" cy="914400"/>
            </a:xfrm>
            <a:prstGeom prst="flowChartDelay">
              <a:avLst/>
            </a:prstGeom>
            <a:solidFill>
              <a:srgbClr val="cc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438280" y="4635360"/>
              <a:ext cx="1143000" cy="88920"/>
            </a:xfrm>
            <a:custGeom>
              <a:avLst/>
              <a:gdLst/>
              <a:ahLst/>
              <a:rect l="l" t="t" r="r" b="b"/>
              <a:pathLst>
                <a:path w="720" h="56">
                  <a:moveTo>
                    <a:pt x="0" y="56"/>
                  </a:moveTo>
                  <a:cubicBezTo>
                    <a:pt x="132" y="36"/>
                    <a:pt x="264" y="16"/>
                    <a:pt x="384" y="8"/>
                  </a:cubicBezTo>
                  <a:cubicBezTo>
                    <a:pt x="504" y="0"/>
                    <a:pt x="612" y="4"/>
                    <a:pt x="720" y="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5714280" y="4648320"/>
              <a:ext cx="1143000" cy="88920"/>
            </a:xfrm>
            <a:custGeom>
              <a:avLst/>
              <a:gdLst/>
              <a:ahLst/>
              <a:rect l="l" t="t" r="r" b="b"/>
              <a:pathLst>
                <a:path w="720" h="56">
                  <a:moveTo>
                    <a:pt x="0" y="56"/>
                  </a:moveTo>
                  <a:cubicBezTo>
                    <a:pt x="132" y="36"/>
                    <a:pt x="264" y="16"/>
                    <a:pt x="384" y="8"/>
                  </a:cubicBezTo>
                  <a:cubicBezTo>
                    <a:pt x="504" y="0"/>
                    <a:pt x="612" y="4"/>
                    <a:pt x="720" y="8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590920" y="44197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019920" y="4419720"/>
              <a:ext cx="38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520440" y="4419720"/>
              <a:ext cx="220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ar Be Repa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CA" sz="3200" spc="-1" strike="noStrike">
                <a:solidFill>
                  <a:srgbClr val="333399"/>
                </a:solidFill>
                <a:latin typeface="Tahoma"/>
              </a:rPr>
              <a:t>let’s model systems and organizations in terms of </a:t>
            </a:r>
            <a:r>
              <a:rPr b="0" lang="en-CA" sz="3200" spc="-1" strike="noStrike">
                <a:solidFill>
                  <a:srgbClr val="ff0000"/>
                </a:solidFill>
                <a:latin typeface="Tahoma"/>
              </a:rPr>
              <a:t>Strategic Dependencies</a:t>
            </a:r>
            <a:r>
              <a:rPr b="0" lang="en-CA" sz="3200" spc="-1" strike="noStrike">
                <a:solidFill>
                  <a:srgbClr val="333399"/>
                </a:solidFill>
                <a:latin typeface="Tahoma"/>
              </a:rPr>
              <a:t> among ac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8260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rcRect l="14664" t="6408" r="18904" b="25645"/>
          <a:stretch/>
        </p:blipFill>
        <p:spPr>
          <a:xfrm>
            <a:off x="838080" y="1752480"/>
            <a:ext cx="8305920" cy="468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5E1-0F06-4645-8132-C448C200AC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4T15:41:18Z</dcterms:created>
  <dc:creator>yu</dc:creator>
  <dc:description/>
  <dc:language>en-US</dc:language>
  <cp:lastModifiedBy>ey</cp:lastModifiedBy>
  <dcterms:modified xsi:type="dcterms:W3CDTF">2008-10-27T01:00:46Z</dcterms:modified>
  <cp:revision>8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06751754</vt:r8>
  </property>
  <property fmtid="{D5CDD505-2E9C-101B-9397-08002B2CF9AE}" pid="3" name="_AuthorEmail">
    <vt:lpwstr>eric@cs.toronto.edu</vt:lpwstr>
  </property>
  <property fmtid="{D5CDD505-2E9C-101B-9397-08002B2CF9AE}" pid="4" name="_AuthorEmailDisplayName">
    <vt:lpwstr>EYu</vt:lpwstr>
  </property>
  <property fmtid="{D5CDD505-2E9C-101B-9397-08002B2CF9AE}" pid="5" name="_EmailSubject">
    <vt:lpwstr>CASCON Workshop on Wednesday</vt:lpwstr>
  </property>
  <property fmtid="{D5CDD505-2E9C-101B-9397-08002B2CF9AE}" pid="6" name="_NewReviewCycle">
    <vt:lpwstr/>
  </property>
</Properties>
</file>