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4CBB-C5BB-4A74-953D-156029A3A1E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155B-1E1C-4F90-90BC-102CF77F904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3804-0BC2-4ED7-B387-35F85ACD298B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***********SOURCE: business analysts, business users***************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s you navigate the goal model, you see how higher-level business goals can be achieved by moving downwards. On the other hand, to see why a particular goal is needed, you just have to move upwards from that go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1AF4-8532-4970-B8B7-D2EE162B5EB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7D583-0E45-4DD5-876E-CCF279017F2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1B8C-50C6-4C4F-8A6A-BD8B5669BAA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eaf-level goals – the actual work to be done in BPs – map into WS invo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igher-level goals are used to group lower-level ones and with the help of control flow annotations are used to generate the corresponding BPEL control flow constr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CDAE-88AD-42B8-BCD3-155EC2FA49C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eaf-level goals – the actual work to be done in BPs – map into WS invo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igher-level goals are used to group lower-level ones and with the help of control flow annotations are used to generate the corresponding BPEL control flow constr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BBA8-92B5-4C1A-823C-932E1E43090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DB70-EF81-4E02-91ED-12C1F3CC695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A92E-DE30-4BDB-9089-657B0A6E45F3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A48C-6674-48AE-B344-6CDD34A4153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5ECC-2EFB-44D0-A427-8232A2642D0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4384-71B3-490F-92CC-64B2F06A05A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F594-7171-4ACE-8B37-63544F145E7C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09F6-4EBE-430F-9AC4-8C549690C06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AE52-165C-42FE-910D-3B5C1900D83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BBB2-402B-4530-B483-A1B6FF1430FA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3723-44C3-4043-8099-A7E486E2C3C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roblems: it’s like if we just started writing code right away, without requirements or de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6C9A-0044-4534-89FD-0D3B6F6FC08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F8BA-0062-4DE4-8263-BFD5CFCEBE20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te: this is an expanded version of the Supply Customer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********SOURCE: business analyst, requirements engineer, developers***********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ote: conditions are mostly informa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F24D-6DCD-4CFA-8319-98486EF98B7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AF88-62B0-4A1F-A3AF-9D6479570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C98F-EFB4-46E2-B852-AE5E8E61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2DC07-7092-4D70-AA53-F42F0481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0D347-2058-41B9-B2AA-59D032CF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5487C-B002-42A6-A35D-42CFB477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A7B3E-CCB2-4893-8602-4028CDD3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33BF5-3D99-48FD-B7F3-98D6E79A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D74B7-8ED7-44DE-A8F8-FCCC7B71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B3F6FD-B550-43BA-AC50-93F21096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B8DFF-1C20-4BE1-9697-2025F8F7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45D81-D849-43A6-A5E8-93AE2D9A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A2DB7C-A8D4-45CB-AD5E-C4A96EA3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948F-8C0A-4385-BFE3-269AFB3D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70F8A-C87C-4EB3-81E8-AFB48238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D172BB-CA06-4D4F-BEC0-D4BB8397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1A6A5-46FA-4FB8-B196-2B5857B3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3136B-A895-4186-9A30-68937023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30FC43-2CCA-4F97-A9ED-3C76E9124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C89041-4AA7-4EC2-A60E-D9C59724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64D9E-3386-47C4-8991-993E9D09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39C59-D4B6-4802-BB84-A8729E0E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5DC22-0B98-4B9C-9382-18A08179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91CA14-EF6A-49E2-90B2-B0861396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C104-DFE6-4918-9876-1372C1E3C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364D0-A550-4C61-9E1A-FB3C29CA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E7096-42AD-4D57-8DE4-6108ADFB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8F245-5E46-4E1E-9C27-3F7D391F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46E237-D626-4356-838F-54B70106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89E5C-1685-44E5-980B-E1A37852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B39FB-A731-4338-ABC9-1BF3D588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448E3-7628-479B-9ED0-E6399083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DD5A7-8913-4269-AB6A-E2325409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AB9AF-FF81-4583-85E9-18730B5D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169A3-9EB8-4A5D-BC15-8EE13102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8787-5E70-4D91-BAFC-24220F18E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F5D55-403E-445A-A8D2-70986D1B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C12237-14FF-4D17-83FD-68CA9BE94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403A7-802F-48A0-88BA-F777E5FF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18DE4-10FC-45D1-9008-24BD2883F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F213C-AF66-4120-BE11-42569134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401E82-66BF-4416-B2D6-87EB3A6B3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85099-5659-4191-8885-FC0DF33B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191CEE-547E-422E-8CB1-6AF9E41E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9A9FA-A705-4739-B4CB-34EAD41F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7DA2F-DF98-48F3-A9C7-EC26ECB1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BE638-85A8-4E0F-9935-A6997AD1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5E97A-4234-43FB-B9D1-1E5DCDF3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2C149-5F1F-436B-B8FF-4B92CFB2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28A5E-BD58-4BAF-965C-394D083E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C5C5F-31AB-44F5-9C41-50BBEB9F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8A3390-5F78-48CA-A57F-3F50EE06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B44B9B-67AF-448E-ADD3-D88F9CE1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DE3DBD-DAF2-4D43-B768-BC6A025B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6F7FD4-48E0-45C0-A6FD-15F4B8A5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D5BF9D-41CC-496B-8458-5BB3E4A2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1D2486-73EA-4A97-8BB7-AEC72A14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FD7D-71B1-4E50-AAED-9F742F09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24289-BBC4-4157-ACBC-D0E7CF5E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048CA4-0035-4C6F-8DA7-669CB8F7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0A5F38-DF58-4E7B-9182-764C80DB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52B865-D8EC-4230-8760-6E8C60E6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15413-054D-4E0A-9785-3C24ADD8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297D38-9BC4-4655-8488-C3D16CCE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D4390-B4C3-4138-BD75-DE0B01EB5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CC4F-C3A2-456E-839B-409DEAB8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3D6A7-0221-4771-A7B7-CA38D408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6CF8-4D91-4DA2-898F-F6E5D48A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F573-1474-42D8-9D38-197C979A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7B5F-26C0-4369-A6EC-E8AA80A1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B795-14A4-4334-B872-F7962D03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3211-16A8-43B4-98C8-BE9C5F5B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7563-D3B4-4F53-AD92-03B643F6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7880-F0C7-4D16-9DA9-3EC4438F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94B0-F785-4AF1-9F41-ECD4E331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B0A68-5916-4A2D-8B11-6CBCB2630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CB871-3171-4EE5-80DC-9F36A373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062D1-0751-4CEF-8785-E00300E5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8B63D-FF26-476A-A7AA-20E3E8FD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F6445-26FD-49E2-A876-2B341B66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0CB9-F448-4E62-9F0D-BC930ACC1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D6E6D-5686-4772-89D8-693EE066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25A7B-4719-47A4-92DE-0E510942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AD183-65F8-49FB-8AA7-9D327B56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B103A-2AEF-49F4-9833-8B4450EA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823D1-77F0-4F22-8175-33D2CF08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22BD7-B90E-4933-94B4-8828A4EE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0B8E1-7DB1-4777-9A30-55BD951D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CBFE0-BA9E-4DF6-B504-D005B161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26FEC-1B78-4B11-974E-09B23B2C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C6E86-2E92-4F3F-907A-21E50AFA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6E83-BAEE-4BFE-975E-6FFDB902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66F48-1486-4F6E-890E-8B9D8D9E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54FF6-6AD6-4FEB-9CD3-786B4C78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33771-D07E-49C0-B9CF-87D317F5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B370F-8D89-4A40-873A-86308ABE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73B23-A0EB-477C-8C18-3B464BF6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BB4DD-EA3C-4792-BA77-050A2589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0BC3A-7693-45C3-9019-DDC41BC9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B70B2-62E9-420D-BF9A-6FE55579A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C2973-C19E-4EBD-929D-A05B2BF2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9AD9A-6E8C-4681-8CE2-7665D97A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3C5E-10D0-4E95-86F9-CADD7707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A1AEA-90F2-4461-A876-FA029C97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ECB86-46D9-44C8-A66A-E2EA3927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C8AFA1-C836-4C2F-9FCA-2D4036AE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AD976-E9B7-4DFB-9DE6-FAA1BBCA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9E297-135A-4EDA-8901-7DCE584A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EE133-ECC0-4903-80D2-4989604E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4CC18-347B-4BE6-B9F6-EEDCF48E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93D9E-D720-4ED7-90FF-2D88D9FB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D747E-D734-4D3E-BB10-A5E94D66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14895-99F4-4C31-88F5-7A4AEE6C8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2E42-6167-402B-A187-29C720C9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DFED8-D381-4CA6-BFAF-6C51DF64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CE74DD-5013-4D2C-B19C-C9EA6A94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4FB88-0FE2-445F-A5DB-71FBFB84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ED55C-E81B-4E7E-88DF-C1B9C0B6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A4246-49AA-467A-A9C0-270680A0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52CAA-3FE9-4CF1-BBED-AF0C903F8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E07BB-1EFD-497A-92A8-22DF6DB7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E1AFC-1B7A-45E9-80CE-FB12EC44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283F1-60F0-4BEE-884F-25759287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CDDA3-EF32-45CD-96DB-42062CD3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126-AFEF-423C-AFE1-B4D42DE0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09DDA-962E-4222-9DFC-416FE2F7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72EC3-84F2-409A-9960-BF3DE22E4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F9001-711B-44F3-BD22-27603769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38AFB-B6DD-45F0-9508-4A343AC1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12805-6EC8-4EC7-AE31-B59EB83F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D851E-0A48-450C-9B96-D3EF410A2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307BB-01BA-46CA-A5BA-4475749B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9B3BA-FB19-43ED-BD21-80B7BE43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1FCAB1-932E-4C44-A379-AF27A76B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614AE-C12C-43D9-B73C-4B22FED5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0367-9363-48C8-94CE-C6D90996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4B656-8E00-473D-B004-2741B903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B1D09-C587-4551-8A1B-1A6236CE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01CC6-B3F6-42EB-9940-D4EA3068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460EE-5229-4E2A-A1EA-4FCB01306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1E764-01CE-47B5-ABC6-1CA02CC14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7E823-AA14-4795-98B8-775FEEB6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45A47-4DCA-440B-8B98-2E96C61C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D045B-A204-4E82-A956-E4F97C5D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A6218-C977-4FFD-AC8D-E1B39206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24993-6FB8-42B0-80C9-943FB8F6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12B3-790B-46B0-9062-A971B57F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5BA7C-B1D8-4361-A15E-240EB485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48147-0273-45DD-9771-293C1E00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1C7CD-B879-4A0C-96F8-7591F97A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4EC7C-2A26-43B9-A1D9-C9D7EA27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BDB35-D788-4789-8507-D343D14C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59279-C504-45B2-BC37-61FC2530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423FC-DB59-41F2-B930-53F9D24E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90A7E-5322-4EFD-9C26-9C1B3948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BCC84-D340-480F-9120-B851B3E0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E3AC9-CBD5-4656-83C2-3EE4422F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E163-B6B3-4D7B-A71C-A8FEFB8F9F9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21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AFBC3-DA1F-46DE-A591-D9C21DF14A4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64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BPM 2007, Brisban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Austral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 September,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A2B2-B887-43D6-A06A-9A65F973523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07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BPM 2007, Brisban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Austral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 September,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4E36-92FE-49E3-ADE9-3E7C0F3684D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550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BPM 2007, Brisbane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, Austral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 September,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6AE7-A815-43C1-A682-517A449A0348}" type="slidenum">
              <a:rPr b="0" lang="en-US" sz="1600" spc="-1" strike="noStrike">
                <a:solidFill>
                  <a:srgbClr val="33006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44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45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6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7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8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49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0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1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2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3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4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5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6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7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8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59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0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1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2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3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4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5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6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7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8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69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0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1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2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3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4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  <p:sp>
          <p:nvSpPr>
            <p:cNvPr id="75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330066"/>
                </a:solidFill>
                <a:latin typeface="Arial"/>
              </a:endParaRPr>
            </a:p>
          </p:txBody>
        </p:sp>
      </p:grpSp>
      <p:sp>
        <p:nvSpPr>
          <p:cNvPr id="76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77" name="Picture 41" descr="ut-logo"/>
          <p:cNvPicPr/>
          <p:nvPr/>
        </p:nvPicPr>
        <p:blipFill>
          <a:blip r:embed="rId2"/>
          <a:stretch/>
        </p:blipFill>
        <p:spPr>
          <a:xfrm>
            <a:off x="7524720" y="1125360"/>
            <a:ext cx="1368360" cy="134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0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2D3A0-05CC-4865-B15F-884967C310F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3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8554-9D08-487A-8CA6-A9643EB90A5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6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B8BA-1C20-48A0-8D07-106C891945B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49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150A-5884-4355-8020-2A4C81B87FC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92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BC53-C419-4EAC-99A3-95D696D0425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35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3497-ECC7-4ACE-80F0-3EAB61EBD43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78" name="Picture 40" descr="ut-logo"/>
          <p:cNvPicPr/>
          <p:nvPr/>
        </p:nvPicPr>
        <p:blipFill>
          <a:blip r:embed="rId2"/>
          <a:stretch/>
        </p:blipFill>
        <p:spPr>
          <a:xfrm>
            <a:off x="8128080" y="333360"/>
            <a:ext cx="907920" cy="8953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RDBPMP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9.10.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870B-1234-42C5-9817-5B7E48B39AA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3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37.xml"/><Relationship Id="rId1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79280" y="466200"/>
            <a:ext cx="70567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330066"/>
                </a:solidFill>
                <a:latin typeface="Arial"/>
              </a:rPr>
              <a:t>Requirements-Driven Design and Configuration Management of BPs</a:t>
            </a:r>
            <a:r>
              <a:rPr b="1" lang="en-CA" sz="48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611280" y="3049200"/>
            <a:ext cx="6486480" cy="27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exei Lapouchn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with Yijun Yu, John Mylopoul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7e9ce8"/>
                </a:solidFill>
                <a:latin typeface="Arial"/>
              </a:rPr>
              <a:t>Department of Computer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7e9ce8"/>
                </a:solidFill>
                <a:latin typeface="Arial"/>
              </a:rPr>
              <a:t>University of Toronto,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FA58-5EAB-4063-AA42-0BD7E1D5A7B6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Variation Poi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3" name="Rectangle 3"/>
          <p:cNvSpPr/>
          <p:nvPr/>
        </p:nvSpPr>
        <p:spPr>
          <a:xfrm>
            <a:off x="0" y="21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64" name="Object 4"/>
          <p:cNvGraphicFramePr/>
          <p:nvPr/>
        </p:nvGraphicFramePr>
        <p:xfrm>
          <a:off x="1474920" y="1484280"/>
          <a:ext cx="655308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4920" y="1484280"/>
                    <a:ext cx="655308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6" name="Oval 9"/>
          <p:cNvSpPr/>
          <p:nvPr/>
        </p:nvSpPr>
        <p:spPr>
          <a:xfrm>
            <a:off x="1467000" y="2349360"/>
            <a:ext cx="1800000" cy="1123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7" name="Oval 10"/>
          <p:cNvSpPr/>
          <p:nvPr/>
        </p:nvSpPr>
        <p:spPr>
          <a:xfrm>
            <a:off x="2006640" y="4464000"/>
            <a:ext cx="1800360" cy="1123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8" name="Oval 11"/>
          <p:cNvSpPr/>
          <p:nvPr/>
        </p:nvSpPr>
        <p:spPr>
          <a:xfrm>
            <a:off x="6146640" y="3429000"/>
            <a:ext cx="1800360" cy="1123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0AB8-EC08-43ED-AFDB-3293F47A39A5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onfiguration Option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73" name="Object 4"/>
          <p:cNvGraphicFramePr/>
          <p:nvPr/>
        </p:nvGraphicFramePr>
        <p:xfrm>
          <a:off x="1871640" y="1449360"/>
          <a:ext cx="531036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1640" y="1449360"/>
                    <a:ext cx="531036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17AF-DC15-4554-9FE2-1B3CFF86D8E8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onfiguration Option 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0" y="253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79" name="Object 4"/>
          <p:cNvGraphicFramePr/>
          <p:nvPr/>
        </p:nvGraphicFramePr>
        <p:xfrm>
          <a:off x="1816200" y="1449360"/>
          <a:ext cx="5497560" cy="471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449360"/>
                    <a:ext cx="549756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79B1-C195-4EC9-8000-ADAF92E7E7C7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Generating Executable BP Specific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7715160" cy="17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enerate WS-BPEL processes from goal mod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emi-automat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tructurally similar to the source goal mod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7e9ce8"/>
                </a:solidFill>
                <a:latin typeface="Arial"/>
              </a:rPr>
              <a:t>Variability preserv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5" name="Object 4"/>
          <p:cNvGraphicFramePr/>
          <p:nvPr/>
        </p:nvGraphicFramePr>
        <p:xfrm>
          <a:off x="1465200" y="3608280"/>
          <a:ext cx="607716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5200" y="3608280"/>
                    <a:ext cx="607716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Object 7"/>
          <p:cNvGraphicFramePr/>
          <p:nvPr/>
        </p:nvGraphicFramePr>
        <p:xfrm>
          <a:off x="1467000" y="3608280"/>
          <a:ext cx="6076800" cy="25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67000" y="3608280"/>
                    <a:ext cx="607680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B291-3B15-46AF-B6AE-E05EEBD67210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Generating Executable BP Specific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771516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Mapping R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Leaf-level goals 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WS Invocations (or BPEL process invoca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Higher-level goals 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No explicitly mapped. Help in generation of BPEL control flow constr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onditions/Loops 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BPEL conditions, loo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vent-driven OR 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pick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w/ multiple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onMessage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constru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Softgoals </a:t>
            </a:r>
            <a:r>
              <a:rPr b="0" lang="en-CA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not mapp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ppropriate </a:t>
            </a:r>
            <a:r>
              <a:rPr b="0" lang="en-CA" sz="2200" spc="-1" strike="noStrike">
                <a:solidFill>
                  <a:srgbClr val="000000"/>
                </a:solidFill>
                <a:latin typeface="Times New Roman"/>
              </a:rPr>
              <a:t>portTypes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, messages (if I/O is specified), etc. are genera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A27F-B12A-4CE1-BF8D-51FA446673D0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Mapping Variation Poi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They are a tool to configure executable (and, possibly, deployed) B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Mapping to WS-BPE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if-elseif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for BPEL 2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branch corresponds to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ranch condition (XPath) checks if it is the current choice for the variation po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ctivities in each branch are automatically generated based on the particular alternative in the goal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000000"/>
                </a:solidFill>
                <a:uFillTx/>
                <a:latin typeface="Arial"/>
              </a:rPr>
              <a:t>All choices are to be implement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PEL process skeleton is generated. It needs to be complet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The result: </a:t>
            </a:r>
            <a:r>
              <a:rPr b="0" lang="en-CA" sz="2100" spc="-1" strike="noStrike">
                <a:solidFill>
                  <a:srgbClr val="0070c0"/>
                </a:solidFill>
                <a:latin typeface="Arial"/>
              </a:rPr>
              <a:t>High-Variability Executable Model (HVEM)</a:t>
            </a: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 of the business proces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Footer Placeholder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86AC-67E7-4D66-A329-EB133C40FC6D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onfiguring HVEMs at Runtim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088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rototype 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GUI for preference in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onfigurator 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Can come up with goal model config based on pref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Can provide the configuration to deployed B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XML Representation for BP configur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1" name="Object 4"/>
          <p:cNvGraphicFramePr/>
          <p:nvPr/>
        </p:nvGraphicFramePr>
        <p:xfrm>
          <a:off x="2637000" y="4681440"/>
          <a:ext cx="4005000" cy="15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7000" y="4681440"/>
                    <a:ext cx="4005000" cy="15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Object 6"/>
          <p:cNvGraphicFramePr/>
          <p:nvPr/>
        </p:nvGraphicFramePr>
        <p:xfrm>
          <a:off x="5202360" y="1673280"/>
          <a:ext cx="3195360" cy="169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02360" y="1673280"/>
                    <a:ext cx="3195360" cy="1698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BPM 2007, Brisban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, Australia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6 September, 2007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4088-D75B-4E32-B4FD-C93A127AD56E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7" name="AutoShape 2"/>
          <p:cNvSpPr/>
          <p:nvPr/>
        </p:nvSpPr>
        <p:spPr>
          <a:xfrm flipV="1" rot="6743400">
            <a:off x="-78480" y="3025440"/>
            <a:ext cx="1655640" cy="733680"/>
          </a:xfrm>
          <a:custGeom>
            <a:avLst/>
            <a:gdLst>
              <a:gd name="textAreaLeft" fmla="*/ 289800 w 1655640"/>
              <a:gd name="textAreaRight" fmla="*/ 1200600 w 165564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7e9ce8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Rectangle 3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09" name="Object 4"/>
          <p:cNvGraphicFramePr/>
          <p:nvPr/>
        </p:nvGraphicFramePr>
        <p:xfrm>
          <a:off x="34920" y="3911760"/>
          <a:ext cx="4897440" cy="22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3911760"/>
                    <a:ext cx="489744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1" name="Object 5"/>
          <p:cNvGraphicFramePr/>
          <p:nvPr/>
        </p:nvGraphicFramePr>
        <p:xfrm>
          <a:off x="1258920" y="2205000"/>
          <a:ext cx="2952720" cy="15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2205000"/>
                    <a:ext cx="2952720" cy="1565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81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713" name="AutoShape 6"/>
          <p:cNvSpPr/>
          <p:nvPr/>
        </p:nvSpPr>
        <p:spPr>
          <a:xfrm rot="3775200">
            <a:off x="2237760" y="1297080"/>
            <a:ext cx="1657080" cy="733320"/>
          </a:xfrm>
          <a:custGeom>
            <a:avLst/>
            <a:gdLst>
              <a:gd name="textAreaLeft" fmla="*/ 289800 w 1657080"/>
              <a:gd name="textAreaRight" fmla="*/ 1201320 w 16570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7e9ce8"/>
          </a:solidFill>
          <a:ln w="93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14" name="Object 7"/>
          <p:cNvGraphicFramePr/>
          <p:nvPr/>
        </p:nvGraphicFramePr>
        <p:xfrm>
          <a:off x="34920" y="44280"/>
          <a:ext cx="2592360" cy="188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0" y="44280"/>
                    <a:ext cx="2592360" cy="18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6" name="Rectangle 8"/>
          <p:cNvSpPr/>
          <p:nvPr/>
        </p:nvSpPr>
        <p:spPr>
          <a:xfrm>
            <a:off x="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7" name="Rectangle 9"/>
          <p:cNvSpPr/>
          <p:nvPr/>
        </p:nvSpPr>
        <p:spPr>
          <a:xfrm>
            <a:off x="7416720" y="0"/>
            <a:ext cx="1656000" cy="170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8" name="Oval 10"/>
          <p:cNvSpPr/>
          <p:nvPr/>
        </p:nvSpPr>
        <p:spPr>
          <a:xfrm>
            <a:off x="2394000" y="125280"/>
            <a:ext cx="647640" cy="64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Oval 11"/>
          <p:cNvSpPr/>
          <p:nvPr/>
        </p:nvSpPr>
        <p:spPr>
          <a:xfrm>
            <a:off x="728640" y="2286000"/>
            <a:ext cx="647640" cy="64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0" name="Oval 12"/>
          <p:cNvSpPr/>
          <p:nvPr/>
        </p:nvSpPr>
        <p:spPr>
          <a:xfrm>
            <a:off x="3762360" y="4402080"/>
            <a:ext cx="647640" cy="64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21" name="Object 13"/>
          <p:cNvGraphicFramePr/>
          <p:nvPr/>
        </p:nvGraphicFramePr>
        <p:xfrm>
          <a:off x="6019920" y="4689360"/>
          <a:ext cx="2557440" cy="982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22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689360"/>
                    <a:ext cx="255744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3" name="Oval 14"/>
          <p:cNvSpPr/>
          <p:nvPr/>
        </p:nvSpPr>
        <p:spPr>
          <a:xfrm>
            <a:off x="5516640" y="4832280"/>
            <a:ext cx="647640" cy="64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4" name="Oval 15"/>
          <p:cNvSpPr/>
          <p:nvPr/>
        </p:nvSpPr>
        <p:spPr>
          <a:xfrm>
            <a:off x="3699000" y="2286000"/>
            <a:ext cx="647640" cy="6476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5" name="AutoShape 16"/>
          <p:cNvSpPr/>
          <p:nvPr/>
        </p:nvSpPr>
        <p:spPr>
          <a:xfrm>
            <a:off x="3141720" y="3033720"/>
            <a:ext cx="934920" cy="216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6" name="Rectangle 17"/>
          <p:cNvSpPr/>
          <p:nvPr/>
        </p:nvSpPr>
        <p:spPr>
          <a:xfrm>
            <a:off x="6058080" y="5678640"/>
            <a:ext cx="24397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 deployed generic process gets the appropriate configuration.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Rectangle 18"/>
          <p:cNvSpPr/>
          <p:nvPr/>
        </p:nvSpPr>
        <p:spPr>
          <a:xfrm>
            <a:off x="3492360" y="6219720"/>
            <a:ext cx="2205000" cy="4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8" name="Rectangle 19"/>
          <p:cNvSpPr/>
          <p:nvPr/>
        </p:nvSpPr>
        <p:spPr>
          <a:xfrm>
            <a:off x="1150920" y="6199200"/>
            <a:ext cx="29257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iven high-level preferences, the appropriate configuration is selected</a:t>
            </a: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29" name="Object 20"/>
          <p:cNvGraphicFramePr/>
          <p:nvPr/>
        </p:nvGraphicFramePr>
        <p:xfrm>
          <a:off x="4527720" y="68400"/>
          <a:ext cx="3958920" cy="1695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30" name="Object 2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27720" y="68400"/>
                    <a:ext cx="395892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1" name="Rectangle 21"/>
          <p:cNvSpPr/>
          <p:nvPr/>
        </p:nvSpPr>
        <p:spPr>
          <a:xfrm>
            <a:off x="4842000" y="1865160"/>
            <a:ext cx="4216320" cy="260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746680" y="1943280"/>
            <a:ext cx="2440080" cy="404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BP Configuration</a:t>
            </a:r>
            <a:endParaRPr b="1" lang="en-US" sz="21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33" name="Object 23"/>
          <p:cNvGraphicFramePr/>
          <p:nvPr/>
        </p:nvGraphicFramePr>
        <p:xfrm>
          <a:off x="4915080" y="2413080"/>
          <a:ext cx="4071600" cy="2028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4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915080" y="2413080"/>
                    <a:ext cx="4071600" cy="20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5" name="Oval 24"/>
          <p:cNvSpPr/>
          <p:nvPr/>
        </p:nvSpPr>
        <p:spPr>
          <a:xfrm>
            <a:off x="4076640" y="125280"/>
            <a:ext cx="647640" cy="648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DC88-2DD7-49F2-A26F-A2C2C04B22B3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Discuss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Model BPs at high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xplicit representation of quality attributes (softgoal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nalysis of alternatives w.r.t. softgo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Traceability to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BP configuration at high-level, in user-oriented te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High-level visualization of BPs using goal models is pos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rawba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xplicit representation of BP altern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Talk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Requirements-driven configuration of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0000"/>
                </a:solidFill>
                <a:latin typeface="Arial"/>
              </a:rPr>
              <a:t>Using contexts to capture domain variability and its effects on B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Towards adaptive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A679-0C9D-4097-BF74-523E1364BF8D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0F8D-DAA4-4D43-B7B4-9460D877D4A6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Our Aim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6320"/>
            <a:ext cx="8229600" cy="45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velop a method for </a:t>
            </a:r>
            <a:r>
              <a:rPr b="0" lang="en-CA" sz="2800" spc="-1" strike="noStrike">
                <a:solidFill>
                  <a:srgbClr val="7e9ce8"/>
                </a:solidFill>
                <a:latin typeface="Arial"/>
              </a:rPr>
              <a:t>requirements-driven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specification and configuration of business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 design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ility to explicitly specify, refine and analyze </a:t>
            </a:r>
            <a:r>
              <a:rPr b="0" lang="en-CA" sz="2400" spc="-1" strike="noStrike">
                <a:solidFill>
                  <a:srgbClr val="7e9ce8"/>
                </a:solidFill>
                <a:latin typeface="Arial"/>
              </a:rPr>
              <a:t>goals of business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ility to model </a:t>
            </a:r>
            <a:r>
              <a:rPr b="0" lang="en-CA" sz="2400" spc="-1" strike="noStrike">
                <a:solidFill>
                  <a:srgbClr val="7e9ce8"/>
                </a:solidFill>
                <a:latin typeface="Arial"/>
              </a:rPr>
              <a:t>quality constraints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lated to 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bility to capture </a:t>
            </a:r>
            <a:r>
              <a:rPr b="0" lang="en-CA" sz="2400" spc="-1" strike="noStrike">
                <a:solidFill>
                  <a:srgbClr val="7e9ce8"/>
                </a:solidFill>
                <a:latin typeface="Arial"/>
              </a:rPr>
              <a:t>alternative way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of achieving the goals of BPs and to model their </a:t>
            </a:r>
            <a:r>
              <a:rPr b="0" lang="en-CA" sz="2400" spc="-1" strike="noStrike">
                <a:solidFill>
                  <a:srgbClr val="7e9ce8"/>
                </a:solidFill>
                <a:latin typeface="Arial"/>
              </a:rPr>
              <a:t>effect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on quality constraints – </a:t>
            </a: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high-variability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240" indent="-340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eneration of high-variability executable BPs based on goal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eyond Intentional Variabilit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719000"/>
            <a:ext cx="822960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Intentional variability cannot capture all the details needed for flexible, adaptable systems. Too high-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E52D-9540-4B98-AF5A-31DAC476AC23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8" name="Content Placeholder 2"/>
          <p:cNvSpPr/>
          <p:nvPr/>
        </p:nvSpPr>
        <p:spPr>
          <a:xfrm>
            <a:off x="609480" y="3384720"/>
            <a:ext cx="471816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How can we model the fact that automatic approval for large orders is </a:t>
            </a:r>
            <a:r>
              <a:rPr b="0" lang="en-CA" sz="3000" spc="-1" strike="noStrike">
                <a:solidFill>
                  <a:srgbClr val="ff0000"/>
                </a:solidFill>
                <a:latin typeface="Arial"/>
              </a:rPr>
              <a:t>very risky</a:t>
            </a: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, while for others, its just risky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49" name="Object 5"/>
          <p:cNvGraphicFramePr/>
          <p:nvPr/>
        </p:nvGraphicFramePr>
        <p:xfrm>
          <a:off x="5094360" y="2859120"/>
          <a:ext cx="4011480" cy="27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4360" y="2859120"/>
                    <a:ext cx="4011480" cy="27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Taking the environment into conside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438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400" spc="-1" strike="noStrike">
                <a:solidFill>
                  <a:srgbClr val="000000"/>
                </a:solidFill>
                <a:latin typeface="Arial"/>
              </a:rPr>
              <a:t>Environment (domain) characteristics and their dynamics affect the requirements and must be taken into consideration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0" lang="en-CA" sz="2400" spc="-1" strike="noStrike">
                <a:solidFill>
                  <a:srgbClr val="ff0000"/>
                </a:solidFill>
                <a:latin typeface="Arial"/>
              </a:rPr>
              <a:t>We take the intentional view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omain characteristics influence the requirements and the behaviour of the system. In particular, they c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ffect the </a:t>
            </a: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requirements themselv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: what is required of the system, i.e., system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ffect/constrain </a:t>
            </a: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goal refinement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, e.g., change the available alternatives to achieve system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how alternatives are evaluated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.r.t. soft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prioriti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over quality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ED09-74B6-4BF9-81E9-F2B68C4B187D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77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Our view of contex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482760" y="98424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perties of the environment that affect requirements are captured using </a:t>
            </a:r>
            <a:r>
              <a:rPr b="0" i="1" lang="en-CA" sz="2800" spc="-1" strike="noStrike">
                <a:solidFill>
                  <a:srgbClr val="ff0000"/>
                </a:solidFill>
                <a:latin typeface="Arial"/>
              </a:rPr>
              <a:t>context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asic definition of a contex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70c0"/>
                </a:solidFill>
                <a:latin typeface="Arial"/>
              </a:rPr>
              <a:t>Abstraction over domain assumptions and/or properties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ny things can be considered to be parts of a contex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ardware/software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PU/bandwidth utilization, current system load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istory of user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History of attempted adap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urrent and recent system/process metric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06240" indent="-32580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ABB4-B9F2-4F6C-B2EF-3DB100FBFA8C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495936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apturing contex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457200" y="1339920"/>
            <a:ext cx="8229600" cy="47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70c0"/>
                </a:solidFill>
                <a:latin typeface="Arial"/>
              </a:rPr>
              <a:t>Context Ent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Things that the process works on (documents/data, supplies, etc.) or with (users, business partners, legacy system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Influence the process (management, owners, government regulator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Other things (date, time, weather conditions, etc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ontext entities have </a:t>
            </a:r>
            <a:r>
              <a:rPr b="0" lang="en-CA" sz="2600" spc="-1" strike="noStrike">
                <a:solidFill>
                  <a:srgbClr val="0070c0"/>
                </a:solidFill>
                <a:latin typeface="Arial"/>
              </a:rPr>
              <a:t>context dimen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Properties that affect the requirements (e.g., size, location, importance, utilization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5D6D-5279-41A2-82B1-32AA6F353D04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63" name="Object 6"/>
          <p:cNvGraphicFramePr/>
          <p:nvPr/>
        </p:nvGraphicFramePr>
        <p:xfrm>
          <a:off x="1238400" y="2717640"/>
          <a:ext cx="6746760" cy="21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0" y="2717640"/>
                    <a:ext cx="6746760" cy="21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9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ontext refinement hierarchi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6" name=""/>
          <p:cNvSpPr txBox="1"/>
          <p:nvPr/>
        </p:nvSpPr>
        <p:spPr>
          <a:xfrm>
            <a:off x="457200" y="129492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Contexts can be arranged in hierarch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tructure the dom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Simplify the modeling of the effects that contexts have on the mod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Leaf-level contexts are </a:t>
            </a:r>
            <a:r>
              <a:rPr b="0" i="1" lang="en-CA" sz="2600" spc="-1" strike="noStrike">
                <a:solidFill>
                  <a:srgbClr val="0070c0"/>
                </a:solidFill>
                <a:latin typeface="Arial"/>
              </a:rPr>
              <a:t>defined</a:t>
            </a:r>
            <a:r>
              <a:rPr b="0" lang="en-CA" sz="2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o determine when they are </a:t>
            </a:r>
            <a:r>
              <a:rPr b="0" i="1" lang="en-CA" sz="26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A7D3-84F7-4EFE-B312-CB1AC3BD2C00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69" name="Object 3"/>
          <p:cNvGraphicFramePr/>
          <p:nvPr/>
        </p:nvGraphicFramePr>
        <p:xfrm>
          <a:off x="1504800" y="4095720"/>
          <a:ext cx="6070680" cy="21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4095720"/>
                    <a:ext cx="6070680" cy="21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Adding contexts to goal mode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EASS 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October 28, 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E19B-7ADE-44CA-BC8F-B74161B757C7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74" name="Object 6"/>
          <p:cNvGraphicFramePr/>
          <p:nvPr/>
        </p:nvGraphicFramePr>
        <p:xfrm>
          <a:off x="184320" y="1251000"/>
          <a:ext cx="8877240" cy="16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1251000"/>
                    <a:ext cx="8877240" cy="16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6" name="Object 8"/>
          <p:cNvGraphicFramePr/>
          <p:nvPr/>
        </p:nvGraphicFramePr>
        <p:xfrm>
          <a:off x="482760" y="3138480"/>
          <a:ext cx="7704000" cy="357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2760" y="3138480"/>
                    <a:ext cx="770400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2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More Examples of Contex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F361-07DC-4B3C-87BA-8C07A051CED4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781" name="Object 3"/>
          <p:cNvGraphicFramePr/>
          <p:nvPr/>
        </p:nvGraphicFramePr>
        <p:xfrm>
          <a:off x="328680" y="1117440"/>
          <a:ext cx="5289480" cy="515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80" y="1117440"/>
                    <a:ext cx="5289480" cy="5156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83" name="Object 5"/>
          <p:cNvGraphicFramePr/>
          <p:nvPr/>
        </p:nvGraphicFramePr>
        <p:xfrm>
          <a:off x="5796000" y="2685960"/>
          <a:ext cx="3043080" cy="25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2685960"/>
                    <a:ext cx="3043080" cy="2565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Using contex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Several ways context can be us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70c0"/>
                </a:solidFill>
                <a:latin typeface="Arial"/>
              </a:rPr>
              <a:t>Process instance configuration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to suit the current context. E.g. (the BP example), look at current date/time, order/customer properties, product characteristics, shipping destination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Dynamic environment results in dynamic context. Thus, context can be monitored and </a:t>
            </a:r>
            <a:r>
              <a:rPr b="0" lang="en-CA" sz="2600" spc="-1" strike="noStrike">
                <a:solidFill>
                  <a:srgbClr val="0070c0"/>
                </a:solidFill>
                <a:latin typeface="Arial"/>
              </a:rPr>
              <a:t>process instances can be adapted to changing contexts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81E9-09DA-4EB0-BBC9-0FAC1404C14E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Supporting Dynamic Contex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daptive systems change in dynamic environments – i.e., </a:t>
            </a:r>
            <a:r>
              <a:rPr b="0" lang="en-CA" sz="2800" spc="-1" strike="noStrike">
                <a:solidFill>
                  <a:srgbClr val="0070c0"/>
                </a:solidFill>
                <a:latin typeface="Arial"/>
              </a:rPr>
              <a:t>when context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ed to understand which contexts are static and which are dynamic within a process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ometimes it’s not clear. E.g., customer risk in the presence of multiple process inst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hange in context entity indicates change in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ext monitoring using context defin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1DB4-9ADA-44B6-BA06-16CECAC38B17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Talk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Requirements-driven configuration of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Using contexts to capture domain variability and its effects on B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0000"/>
                </a:solidFill>
                <a:latin typeface="Arial"/>
              </a:rPr>
              <a:t>Towards adaptive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F7CC-C23A-4E49-902E-0BA0DCA4C57C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FFD9-6058-4322-8474-F7C72BEB101B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Our Aim (2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000000"/>
                </a:solidFill>
                <a:latin typeface="Arial"/>
              </a:rPr>
              <a:t>Fine-grained modeling of BPs based on varying </a:t>
            </a:r>
            <a:r>
              <a:rPr b="0" lang="en-CA" sz="2500" spc="-1" strike="noStrike">
                <a:solidFill>
                  <a:srgbClr val="0070c0"/>
                </a:solidFill>
                <a:latin typeface="Arial"/>
              </a:rPr>
              <a:t>environment characteristic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t run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raceability to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figuration of BPs based on current business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9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000" spc="-1" strike="noStrike">
                <a:solidFill>
                  <a:srgbClr val="000000"/>
                </a:solidFill>
                <a:latin typeface="Arial"/>
              </a:rPr>
              <a:t>Specified at high level in user-oriented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Support for BP adaptation based on dynamically changing domain propert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100" spc="-1" strike="noStrike">
                <a:solidFill>
                  <a:srgbClr val="000000"/>
                </a:solidFill>
                <a:latin typeface="Arial"/>
              </a:rPr>
              <a:t>BP adaptation based on BAM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1254-F456-4B2F-8298-3C7D27DFBFAC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P Reconfiguration/Adap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1473120"/>
            <a:ext cx="4970520" cy="465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669999"/>
                </a:solidFill>
                <a:latin typeface="Arial"/>
              </a:rPr>
              <a:t>Adaptatio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is done through </a:t>
            </a:r>
            <a:r>
              <a:rPr b="0" lang="en-CA" sz="2600" spc="-1" strike="noStrike">
                <a:solidFill>
                  <a:srgbClr val="7e9ce8"/>
                </a:solidFill>
                <a:latin typeface="Arial"/>
              </a:rPr>
              <a:t>BP reconfiguration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CA" sz="2600" spc="-1" strike="noStrike" u="sng">
                <a:solidFill>
                  <a:srgbClr val="000000"/>
                </a:solidFill>
                <a:uFillTx/>
                <a:latin typeface="Arial"/>
              </a:rPr>
              <a:t>switching to a better alternative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ff0000"/>
                </a:solidFill>
                <a:latin typeface="Arial"/>
              </a:rPr>
              <a:t>Anticipated adapt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nalysis and reconfiguration is done at </a:t>
            </a:r>
            <a:r>
              <a:rPr b="0" lang="en-CA" sz="2600" spc="-1" strike="noStrike">
                <a:solidFill>
                  <a:srgbClr val="7e9ce8"/>
                </a:solidFill>
                <a:latin typeface="Arial"/>
              </a:rPr>
              <a:t>high level in terms of goal model alternatives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auses for reconfigur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Change in requirements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 (e.g., business user priorit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000000"/>
                </a:solidFill>
                <a:latin typeface="Arial"/>
              </a:rPr>
              <a:t>As a response to BP moni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200" spc="-1" strike="noStrike">
                <a:solidFill>
                  <a:srgbClr val="ff0000"/>
                </a:solidFill>
                <a:latin typeface="Arial"/>
              </a:rPr>
              <a:t>Changing environment (contex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1" name="Object 2"/>
          <p:cNvGraphicFramePr/>
          <p:nvPr/>
        </p:nvGraphicFramePr>
        <p:xfrm>
          <a:off x="5576760" y="2303640"/>
          <a:ext cx="3451320" cy="282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6760" y="2303640"/>
                    <a:ext cx="3451320" cy="28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Adaptive BP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57200" y="1250640"/>
            <a:ext cx="8229600" cy="48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ust have measurable me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Lead/lag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From qualitative to quantitativ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Operationalization of soft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apping to metrics/K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4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oftgoal desired satisfaction levels =&gt; target values or r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an be done in th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ometimes needs to be exposed – e.g., customer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Quanti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Qualitative is still useful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C159-F41A-4CE8-951A-6D6DFFC2EDD1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048A-D8F3-4A4E-98FF-49B051CAE94C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BP Reconfigu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810" name="Object 2"/>
          <p:cNvGraphicFramePr/>
          <p:nvPr/>
        </p:nvGraphicFramePr>
        <p:xfrm>
          <a:off x="171360" y="1019160"/>
          <a:ext cx="7918560" cy="524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019160"/>
                    <a:ext cx="79185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2" name="Oval 10"/>
          <p:cNvSpPr/>
          <p:nvPr/>
        </p:nvSpPr>
        <p:spPr>
          <a:xfrm>
            <a:off x="1727280" y="167328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3" name="Oval 11"/>
          <p:cNvSpPr/>
          <p:nvPr/>
        </p:nvSpPr>
        <p:spPr>
          <a:xfrm>
            <a:off x="3490920" y="200664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4" name="Oval 12"/>
          <p:cNvSpPr/>
          <p:nvPr/>
        </p:nvSpPr>
        <p:spPr>
          <a:xfrm>
            <a:off x="7365960" y="200664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5" name="Oval 13"/>
          <p:cNvSpPr/>
          <p:nvPr/>
        </p:nvSpPr>
        <p:spPr>
          <a:xfrm>
            <a:off x="5543640" y="2451240"/>
            <a:ext cx="495360" cy="495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6" name="Oval 14"/>
          <p:cNvSpPr/>
          <p:nvPr/>
        </p:nvSpPr>
        <p:spPr>
          <a:xfrm>
            <a:off x="5587920" y="329400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7" name="Oval 15"/>
          <p:cNvSpPr/>
          <p:nvPr/>
        </p:nvSpPr>
        <p:spPr>
          <a:xfrm>
            <a:off x="7321680" y="4229280"/>
            <a:ext cx="495000" cy="4950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8" name="Oval 16"/>
          <p:cNvSpPr/>
          <p:nvPr/>
        </p:nvSpPr>
        <p:spPr>
          <a:xfrm>
            <a:off x="5607000" y="545472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19" name="Oval 17"/>
          <p:cNvSpPr/>
          <p:nvPr/>
        </p:nvSpPr>
        <p:spPr>
          <a:xfrm>
            <a:off x="1601640" y="527364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0" name="Oval 18"/>
          <p:cNvSpPr/>
          <p:nvPr/>
        </p:nvSpPr>
        <p:spPr>
          <a:xfrm>
            <a:off x="3492360" y="3833640"/>
            <a:ext cx="495360" cy="4953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FD4B-B776-450C-A69F-C613E5D339F9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Current/Future Wor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Runtime optimization of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From softgoals to metrics/KP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Runtime evaluation of BP perform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Context-based adaptation of B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Performance contex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Contexts based on how well targets are being m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Arial"/>
              </a:rPr>
              <a:t>Modeling mitigation techniqu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From contexts to B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Integration of preference-based, context-based, performance-based adap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3EA2-7B02-4311-AB63-02D9DF447EC3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827" name="Picture 2" descr="ThankYou_Graphic_White"/>
          <p:cNvPicPr/>
          <p:nvPr/>
        </p:nvPicPr>
        <p:blipFill>
          <a:blip r:embed="rId1"/>
          <a:stretch/>
        </p:blipFill>
        <p:spPr>
          <a:xfrm>
            <a:off x="2319480" y="1895400"/>
            <a:ext cx="4429080" cy="241956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3"/>
          <p:cNvSpPr/>
          <p:nvPr/>
        </p:nvSpPr>
        <p:spPr>
          <a:xfrm>
            <a:off x="3223440" y="464184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lexei@cs.toronto.edu</a:t>
            </a: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Talk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ff0000"/>
                </a:solidFill>
                <a:latin typeface="Arial"/>
              </a:rPr>
              <a:t>Requirements-driven configuration of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Using contexts to capture domain variability and its effects on BP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Arial"/>
              </a:rPr>
              <a:t>Towards adaptive BP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07ECE-DC4D-47AC-931A-98111760CBE5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7D7B-49FC-4429-B9B4-0C257D9B0D29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6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tiv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60280" y="1206000"/>
            <a:ext cx="8623440" cy="510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Business Process (BP) is seen as a collection of </a:t>
            </a:r>
            <a:r>
              <a:rPr b="0" lang="en-CA" sz="1800" spc="-1" strike="noStrike">
                <a:solidFill>
                  <a:srgbClr val="7e9ce8"/>
                </a:solidFill>
                <a:latin typeface="Arial"/>
              </a:rPr>
              <a:t>activitie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that achieves a certain </a:t>
            </a:r>
            <a:r>
              <a:rPr b="0" lang="en-CA" sz="1800" spc="-1" strike="noStrike">
                <a:solidFill>
                  <a:srgbClr val="7e9ce8"/>
                </a:solidFill>
                <a:latin typeface="Arial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wever, BPs are usually represented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orkflows (e.g., BPMN), executable workflows (e.g., WS-BP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Can capture and analyze certain aspects of BPs, bu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oblems exi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urpose is rarely explicitly repres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orkflows do not usually capt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choices in achieving the goals of 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rationale for sequencing and other decisions, non-functional asp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00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Domain properties and how they influence the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r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Select process configuration with desired quality characteristic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Configure a process based on the characteristics of the domai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2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Arial"/>
              </a:rPr>
              <a:t>Configure processes at high level, w/o extensive knowledge of modeling not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7e9ce8"/>
                </a:solidFill>
                <a:latin typeface="Arial"/>
                <a:ea typeface="Arial"/>
              </a:rPr>
              <a:t>Maintenance and adaptation are diffic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Supply Customer BP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9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70A4-909B-436A-A219-60D31284FF67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21" name="Object 4"/>
          <p:cNvGraphicFramePr/>
          <p:nvPr/>
        </p:nvGraphicFramePr>
        <p:xfrm>
          <a:off x="2052720" y="1606680"/>
          <a:ext cx="621648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1606680"/>
                    <a:ext cx="621648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AutoShape 7"/>
          <p:cNvSpPr/>
          <p:nvPr/>
        </p:nvSpPr>
        <p:spPr>
          <a:xfrm>
            <a:off x="216000" y="5829480"/>
            <a:ext cx="1346040" cy="609480"/>
          </a:xfrm>
          <a:prstGeom prst="wedgeRoundRectCallout">
            <a:avLst>
              <a:gd name="adj1" fmla="val 114648"/>
              <a:gd name="adj2" fmla="val -70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Functional Goal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4" name="AutoShape 8"/>
          <p:cNvSpPr/>
          <p:nvPr/>
        </p:nvSpPr>
        <p:spPr>
          <a:xfrm>
            <a:off x="6300720" y="1606680"/>
            <a:ext cx="914400" cy="609480"/>
          </a:xfrm>
          <a:prstGeom prst="wedgeRoundRectCallout">
            <a:avLst>
              <a:gd name="adj1" fmla="val -148092"/>
              <a:gd name="adj2" fmla="val -9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Root Goal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5" name="AutoShape 9"/>
          <p:cNvSpPr/>
          <p:nvPr/>
        </p:nvSpPr>
        <p:spPr>
          <a:xfrm>
            <a:off x="162000" y="1873080"/>
            <a:ext cx="1512720" cy="609840"/>
          </a:xfrm>
          <a:prstGeom prst="wedgeRoundRectCallout">
            <a:avLst>
              <a:gd name="adj1" fmla="val 96379"/>
              <a:gd name="adj2" fmla="val -3854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Quality Goal (Softgoal)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6" name="AutoShape 10"/>
          <p:cNvSpPr/>
          <p:nvPr/>
        </p:nvSpPr>
        <p:spPr>
          <a:xfrm>
            <a:off x="162000" y="2817720"/>
            <a:ext cx="1562040" cy="647640"/>
          </a:xfrm>
          <a:prstGeom prst="wedgeRoundRectCallout">
            <a:avLst>
              <a:gd name="adj1" fmla="val 86888"/>
              <a:gd name="adj2" fmla="val -5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oftgoal Contribution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AutoShape 11"/>
          <p:cNvSpPr/>
          <p:nvPr/>
        </p:nvSpPr>
        <p:spPr>
          <a:xfrm>
            <a:off x="7812000" y="2089080"/>
            <a:ext cx="1081080" cy="1079640"/>
          </a:xfrm>
          <a:prstGeom prst="wedgeRoundRectCallout">
            <a:avLst>
              <a:gd name="adj1" fmla="val -133111"/>
              <a:gd name="adj2" fmla="val 469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Control Flow Annota-tions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8" name="AutoShape 14"/>
          <p:cNvSpPr/>
          <p:nvPr/>
        </p:nvSpPr>
        <p:spPr>
          <a:xfrm>
            <a:off x="216000" y="5029200"/>
            <a:ext cx="1346040" cy="609480"/>
          </a:xfrm>
          <a:prstGeom prst="wedgeRoundRectCallout">
            <a:avLst>
              <a:gd name="adj1" fmla="val 453203"/>
              <a:gd name="adj2" fmla="val -22786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Variation Point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9" name="Oval 16"/>
          <p:cNvSpPr/>
          <p:nvPr/>
        </p:nvSpPr>
        <p:spPr>
          <a:xfrm>
            <a:off x="2411280" y="2368440"/>
            <a:ext cx="360360" cy="2714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0" name="Oval 15"/>
          <p:cNvSpPr/>
          <p:nvPr/>
        </p:nvSpPr>
        <p:spPr>
          <a:xfrm>
            <a:off x="2185920" y="2638440"/>
            <a:ext cx="360360" cy="27144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1" name="Oval 17"/>
          <p:cNvSpPr/>
          <p:nvPr/>
        </p:nvSpPr>
        <p:spPr>
          <a:xfrm>
            <a:off x="4122720" y="5068800"/>
            <a:ext cx="944640" cy="314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Oval 18"/>
          <p:cNvSpPr/>
          <p:nvPr/>
        </p:nvSpPr>
        <p:spPr>
          <a:xfrm>
            <a:off x="6912000" y="3763800"/>
            <a:ext cx="944640" cy="314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3" name="Oval 19"/>
          <p:cNvSpPr/>
          <p:nvPr/>
        </p:nvSpPr>
        <p:spPr>
          <a:xfrm>
            <a:off x="2681280" y="2908440"/>
            <a:ext cx="944640" cy="314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Rectangle 25"/>
          <p:cNvSpPr/>
          <p:nvPr/>
        </p:nvSpPr>
        <p:spPr>
          <a:xfrm>
            <a:off x="260280" y="3606840"/>
            <a:ext cx="13492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Help ( + )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Make (++)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Hurt ( – )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Break (</a:t>
            </a: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CA" sz="14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 )</a:t>
            </a:r>
            <a:endParaRPr b="1" lang="en-US" sz="1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1BA6-E5E0-4661-B4E4-373F187A20DF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Increasing Precision with Annot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31640" y="171756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Goal models do not capture enough information to be useful in semi-automatic generation of workfl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nnotations to increase preci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Anno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Control flow (sequence, concurrency, loops, condi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xternal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Input/output can also be model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3399"/>
                </a:solidFill>
                <a:latin typeface="Arial"/>
              </a:rPr>
              <a:t>Annotations – capture domain properties, not design decision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3925-F940-4433-8037-8F93B910B0EE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Increasing Precision with Annot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643" name="Object 4"/>
          <p:cNvGraphicFramePr/>
          <p:nvPr/>
        </p:nvGraphicFramePr>
        <p:xfrm>
          <a:off x="1467000" y="1538280"/>
          <a:ext cx="6597360" cy="47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7000" y="1538280"/>
                    <a:ext cx="6597360" cy="47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Oval 6"/>
          <p:cNvSpPr/>
          <p:nvPr/>
        </p:nvSpPr>
        <p:spPr>
          <a:xfrm>
            <a:off x="3581280" y="3743280"/>
            <a:ext cx="126072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6" name="Oval 7"/>
          <p:cNvSpPr/>
          <p:nvPr/>
        </p:nvSpPr>
        <p:spPr>
          <a:xfrm>
            <a:off x="5381640" y="3789360"/>
            <a:ext cx="108108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7" name="AutoShape 8"/>
          <p:cNvSpPr/>
          <p:nvPr/>
        </p:nvSpPr>
        <p:spPr>
          <a:xfrm>
            <a:off x="297000" y="3068640"/>
            <a:ext cx="1368360" cy="638280"/>
          </a:xfrm>
          <a:prstGeom prst="wedgeRoundRectCallout">
            <a:avLst>
              <a:gd name="adj1" fmla="val 205569"/>
              <a:gd name="adj2" fmla="val 87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Conditions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8" name="Oval 10"/>
          <p:cNvSpPr/>
          <p:nvPr/>
        </p:nvSpPr>
        <p:spPr>
          <a:xfrm>
            <a:off x="1511280" y="5364000"/>
            <a:ext cx="1216080" cy="360360"/>
          </a:xfrm>
          <a:prstGeom prst="ellipse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AutoShape 9"/>
          <p:cNvSpPr/>
          <p:nvPr/>
        </p:nvSpPr>
        <p:spPr>
          <a:xfrm>
            <a:off x="206280" y="4373640"/>
            <a:ext cx="1368360" cy="728640"/>
          </a:xfrm>
          <a:prstGeom prst="wedgeRoundRectCallout">
            <a:avLst>
              <a:gd name="adj1" fmla="val 56148"/>
              <a:gd name="adj2" fmla="val 108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External Events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0" name="Oval 13"/>
          <p:cNvSpPr/>
          <p:nvPr/>
        </p:nvSpPr>
        <p:spPr>
          <a:xfrm>
            <a:off x="4976640" y="3024360"/>
            <a:ext cx="1035360" cy="36180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1" name="AutoShape 12"/>
          <p:cNvSpPr/>
          <p:nvPr/>
        </p:nvSpPr>
        <p:spPr>
          <a:xfrm>
            <a:off x="6686640" y="1584360"/>
            <a:ext cx="1368360" cy="549360"/>
          </a:xfrm>
          <a:prstGeom prst="wedgeRoundRectCallout">
            <a:avLst>
              <a:gd name="adj1" fmla="val -112296"/>
              <a:gd name="adj2" fmla="val 2268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Loops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2" name="AutoShape 14"/>
          <p:cNvSpPr/>
          <p:nvPr/>
        </p:nvSpPr>
        <p:spPr>
          <a:xfrm>
            <a:off x="7316640" y="2259000"/>
            <a:ext cx="1576440" cy="549360"/>
          </a:xfrm>
          <a:prstGeom prst="wedgeRoundRectCallout">
            <a:avLst>
              <a:gd name="adj1" fmla="val -91087"/>
              <a:gd name="adj2" fmla="val 1179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Oval 15"/>
          <p:cNvSpPr/>
          <p:nvPr/>
        </p:nvSpPr>
        <p:spPr>
          <a:xfrm>
            <a:off x="6146640" y="2889360"/>
            <a:ext cx="765360" cy="40464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4" name="Oval 16"/>
          <p:cNvSpPr/>
          <p:nvPr/>
        </p:nvSpPr>
        <p:spPr>
          <a:xfrm>
            <a:off x="4616280" y="2124000"/>
            <a:ext cx="765360" cy="40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5" name="AutoShape 17"/>
          <p:cNvSpPr/>
          <p:nvPr/>
        </p:nvSpPr>
        <p:spPr>
          <a:xfrm>
            <a:off x="5651640" y="998640"/>
            <a:ext cx="1368360" cy="549000"/>
          </a:xfrm>
          <a:prstGeom prst="wedgeRoundRectCallout">
            <a:avLst>
              <a:gd name="adj1" fmla="val -89097"/>
              <a:gd name="adj2" fmla="val 180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RDBPMPM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Arial"/>
              </a:rPr>
              <a:t>29.10.2008</a:t>
            </a: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4FC5-B27E-4716-A983-2916A4A47D9C}" type="slidenum">
              <a:rPr b="1" lang="en-US" sz="1600" spc="-1" strike="noStrike">
                <a:solidFill>
                  <a:srgbClr val="330066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900" spc="-1" strike="noStrike">
                <a:solidFill>
                  <a:srgbClr val="330066"/>
                </a:solidFill>
                <a:latin typeface="Arial"/>
              </a:rPr>
              <a:t>High-Level BP Configur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0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Want to configure BPs based on preferences over </a:t>
            </a:r>
            <a:r>
              <a:rPr b="0" lang="en-CA" sz="2600" spc="-1" strike="noStrike">
                <a:solidFill>
                  <a:srgbClr val="7e9ce8"/>
                </a:solidFill>
                <a:latin typeface="Arial"/>
              </a:rPr>
              <a:t>quality attributes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(softgoal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Main mechanism to capture variability and to configure goal models: </a:t>
            </a:r>
            <a:r>
              <a:rPr b="0" i="1" lang="en-CA" sz="2600" spc="-1" strike="noStrike">
                <a:solidFill>
                  <a:srgbClr val="7e9ce8"/>
                </a:solidFill>
                <a:latin typeface="Arial"/>
              </a:rPr>
              <a:t>preference-driven</a:t>
            </a:r>
            <a:r>
              <a:rPr b="0" lang="en-CA" sz="2600" spc="-1" strike="noStrike">
                <a:solidFill>
                  <a:srgbClr val="7e9ce8"/>
                </a:solidFill>
                <a:latin typeface="Arial"/>
              </a:rPr>
              <a:t> OR decompositions 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CA" sz="2600" spc="-1" strike="noStrike">
                <a:solidFill>
                  <a:srgbClr val="7e9ce8"/>
                </a:solidFill>
                <a:latin typeface="Arial"/>
              </a:rPr>
              <a:t> </a:t>
            </a:r>
            <a:r>
              <a:rPr b="0" i="1" lang="en-CA" sz="2600" spc="-1" strike="noStrike">
                <a:solidFill>
                  <a:srgbClr val="7e9ce8"/>
                </a:solidFill>
                <a:latin typeface="Arial"/>
              </a:rPr>
              <a:t>Variation Poi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(vs. data-driven or event-driven process variation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E.g., Ship Order: either Ship Standard or Ship Ex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Alternatives achieve the same t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Difference in </a:t>
            </a:r>
            <a:r>
              <a:rPr b="0" lang="en-CA" sz="2200" spc="-1" strike="noStrike">
                <a:solidFill>
                  <a:srgbClr val="7e9ce8"/>
                </a:solidFill>
                <a:latin typeface="Arial"/>
              </a:rPr>
              <a:t>softgoal contrib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 u="sng">
                <a:solidFill>
                  <a:srgbClr val="ff3399"/>
                </a:solidFill>
                <a:uFillTx/>
                <a:latin typeface="Arial"/>
              </a:rPr>
              <a:t>Softgoals act as selection criteria</a:t>
            </a:r>
            <a:r>
              <a:rPr b="0" lang="en-CA" sz="2600" spc="-1" strike="noStrike">
                <a:solidFill>
                  <a:srgbClr val="000000"/>
                </a:solidFill>
                <a:latin typeface="Arial"/>
              </a:rPr>
              <a:t> for choosing BP configu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22:38:40Z</dcterms:created>
  <dc:creator>AL</dc:creator>
  <dc:description/>
  <dc:language>en-US</dc:language>
  <cp:lastModifiedBy>Alexei Lapouchnian</cp:lastModifiedBy>
  <dcterms:modified xsi:type="dcterms:W3CDTF">2008-10-29T15:50:43Z</dcterms:modified>
  <cp:revision>250</cp:revision>
  <dc:subject/>
  <dc:title>Slide 1</dc:title>
</cp:coreProperties>
</file>